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7.png" ContentType="image/png"/>
  <Override PartName="/ppt/media/image1.jpeg" ContentType="image/jpeg"/>
  <Override PartName="/ppt/media/image35.jpeg" ContentType="image/jpeg"/>
  <Override PartName="/ppt/media/image10.png" ContentType="image/png"/>
  <Override PartName="/ppt/media/image50.png" ContentType="image/png"/>
  <Override PartName="/ppt/media/image32.png" ContentType="image/png"/>
  <Override PartName="/ppt/media/image25.jpeg" ContentType="image/jpeg"/>
  <Override PartName="/ppt/media/image37.jpeg" ContentType="image/jpeg"/>
  <Override PartName="/ppt/media/image30.png" ContentType="image/png"/>
  <Override PartName="/ppt/media/image3.jpeg" ContentType="image/jpeg"/>
  <Override PartName="/ppt/media/image15.png" ContentType="image/png"/>
  <Override PartName="/ppt/media/image2.jpeg" ContentType="image/jpeg"/>
  <Override PartName="/ppt/media/image57.png" ContentType="image/png"/>
  <Override PartName="/ppt/media/image14.png" ContentType="image/png"/>
  <Override PartName="/ppt/media/image24.wmf" ContentType="image/x-wmf"/>
  <Override PartName="/ppt/media/image6.jpeg" ContentType="image/jpeg"/>
  <Override PartName="/ppt/media/image60.png" ContentType="image/png"/>
  <Override PartName="/ppt/media/image18.png" ContentType="image/png"/>
  <Override PartName="/ppt/media/image29.png" ContentType="image/png"/>
  <Override PartName="/ppt/media/image21.jpeg" ContentType="image/jpeg"/>
  <Override PartName="/ppt/media/image17.png" ContentType="image/png"/>
  <Override PartName="/ppt/media/image16.png" ContentType="image/png"/>
  <Override PartName="/ppt/media/image27.png" ContentType="image/png"/>
  <Override PartName="/ppt/media/image26.png" ContentType="image/png"/>
  <Override PartName="/ppt/media/image23.png" ContentType="image/png"/>
  <Override PartName="/ppt/media/image5.jpeg" ContentType="image/jpeg"/>
  <Override PartName="/ppt/media/image61.png" ContentType="image/png"/>
  <Override PartName="/ppt/media/image59.png" ContentType="image/png"/>
  <Override PartName="/ppt/media/image22.png" ContentType="image/png"/>
  <Override PartName="/ppt/media/image8.png" ContentType="image/png"/>
  <Override PartName="/ppt/media/image38.png" ContentType="image/png"/>
  <Override PartName="/ppt/media/image28.jpeg" ContentType="image/jpeg"/>
  <Override PartName="/ppt/media/image11.jpeg" ContentType="image/jpeg"/>
  <Override PartName="/ppt/media/image13.png" ContentType="image/png"/>
  <Override PartName="/ppt/media/image19.png" ContentType="image/png"/>
  <Override PartName="/ppt/media/image7.png" ContentType="image/png"/>
  <Override PartName="/ppt/media/image12.png" ContentType="image/png"/>
  <Override PartName="/ppt/media/image49.png" ContentType="image/png"/>
  <Override PartName="/ppt/media/image9.png" ContentType="image/png"/>
  <Override PartName="/ppt/media/image39.png" ContentType="image/png"/>
  <Override PartName="/ppt/media/image31.jpeg" ContentType="image/jpeg"/>
  <Override PartName="/ppt/media/image33.png" ContentType="image/png"/>
  <Override PartName="/ppt/media/image34.png" ContentType="image/png"/>
  <Override PartName="/ppt/media/image36.png" ContentType="image/png"/>
  <Override PartName="/ppt/media/image44.png" ContentType="image/png"/>
  <Override PartName="/ppt/media/image56.png" ContentType="image/png"/>
  <Override PartName="/ppt/media/image40.jpeg" ContentType="image/jpeg"/>
  <Override PartName="/ppt/media/image41.jpeg" ContentType="image/jpeg"/>
  <Override PartName="/ppt/media/image54.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4.jpeg" ContentType="image/jpeg"/>
  <Override PartName="/ppt/media/image51.png" ContentType="image/png"/>
  <Override PartName="/ppt/media/image52.png" ContentType="image/png"/>
  <Override PartName="/ppt/media/image53.png" ContentType="image/png"/>
  <Override PartName="/ppt/media/image20.jpeg" ContentType="image/jpeg"/>
  <Override PartName="/ppt/media/image5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81" name="PlaceHolder 1"/>
          <p:cNvSpPr>
            <a:spLocks noGrp="1"/>
          </p:cNvSpPr>
          <p:nvPr>
            <p:ph type="sldImg"/>
          </p:nvPr>
        </p:nvSpPr>
        <p:spPr>
          <a:xfrm>
            <a:off x="0" y="520920"/>
            <a:ext cx="0" cy="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82" name="PlaceHolder 2"/>
          <p:cNvSpPr>
            <a:spLocks noGrp="1"/>
          </p:cNvSpPr>
          <p:nvPr>
            <p:ph type="body"/>
          </p:nvPr>
        </p:nvSpPr>
        <p:spPr>
          <a:xfrm>
            <a:off x="914400" y="3257280"/>
            <a:ext cx="7314840" cy="308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029040" y="857160"/>
            <a:ext cx="3085920" cy="2314800"/>
          </a:xfrm>
          <a:prstGeom prst="rect">
            <a:avLst/>
          </a:prstGeom>
          <a:ln w="0">
            <a:noFill/>
          </a:ln>
        </p:spPr>
      </p:sp>
      <p:sp>
        <p:nvSpPr>
          <p:cNvPr id="505" name="PlaceHolder 2"/>
          <p:cNvSpPr>
            <a:spLocks noGrp="1"/>
          </p:cNvSpPr>
          <p:nvPr>
            <p:ph type="body"/>
          </p:nvPr>
        </p:nvSpPr>
        <p:spPr>
          <a:xfrm>
            <a:off x="914400" y="3300120"/>
            <a:ext cx="7315200" cy="27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 01 sentence max. What does sphere man suggest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we live without arm, leg, health, spine/backb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 is basic and is translation of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360" y="-360"/>
            <a:ext cx="360" cy="360"/>
          </a:xfrm>
          <a:prstGeom prst="rect">
            <a:avLst/>
          </a:prstGeom>
          <a:noFill/>
          <a:ln w="0">
            <a:noFill/>
          </a:ln>
        </p:spPr>
        <p:txBody>
          <a:bodyPr lIns="90000" rIns="9000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esenter</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2014-03-02 00:27:33</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Hie Everyone, we are going to talk about the “Sphere Minimum Standard” and its handbook which is the  most  widely  known  and  internationally  recognized  set  of  common   principles  and  universal  minimum  standards  for  humanitarian  response.  It  allows  humanitarian   actors  to  provide  quality  humanitarian  response  in  an  accountable  manner.  This  is  because  the   handbook reflects the sector’s evidence-‐based  best  practices,  agreed  upon  through  an   unprecedented,  global  and  open  consultative  process. Now I am asking few questions – if its true for you then raise your hand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o knows about Spher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o has a sphere handbook previously Who is implementing i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o has a concrete case study to share with us right now.</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you have seen that the we have lesser hand raised towards the practice side – so here we are to practice.</a:t>
            </a:r>
            <a:endParaRPr b="0" lang="en-US" sz="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3029040" y="857160"/>
            <a:ext cx="3085920" cy="2314800"/>
          </a:xfrm>
          <a:prstGeom prst="rect">
            <a:avLst/>
          </a:prstGeom>
          <a:ln w="0">
            <a:noFill/>
          </a:ln>
        </p:spPr>
      </p:sp>
      <p:sp>
        <p:nvSpPr>
          <p:cNvPr id="503" name="PlaceHolder 2"/>
          <p:cNvSpPr>
            <a:spLocks noGrp="1"/>
          </p:cNvSpPr>
          <p:nvPr>
            <p:ph type="body"/>
          </p:nvPr>
        </p:nvSpPr>
        <p:spPr>
          <a:xfrm>
            <a:off x="914400" y="3300120"/>
            <a:ext cx="7315200" cy="27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 01 sentence max. What does sphere man suggest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we live without arm, leg, health, spine/backb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 is basic and is translation of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1894053-3D58-44C2-8657-DA8AB55DE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8CF246D-8035-448E-BDB7-603088393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55F2F57-3B21-4E2C-954C-BA3803B3945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5F6EF5D-B55F-4E88-AEDC-5AE2D7C115C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11FAD-970F-4513-B51B-5762C25F4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37B2D-F461-44D0-B9A6-B2F885390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56B7F-C7F2-4DF0-842F-A95A51277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33941-EEFF-4001-981C-772CA0CD9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4A994-3EC8-401C-8F5B-E3308358F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0E4D9-D7B8-426D-9985-6CB72FD02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742ED-7EF2-43FC-9864-FED3B5ABC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62533A2-BE1E-439C-A549-089AE4FAB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7391E-F023-4B53-A150-E4278EF21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F2713-6FB3-4594-B708-3B785953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5FA0D-7909-40ED-87BE-30BE3C323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1AE7E-E3FC-4043-936B-2749C90C6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BC282-C781-4071-8080-C18790E40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72EFDD78-44CE-4BBC-BBFD-194966C38AE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4272ED88-3889-4846-B19B-F591A4B681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80163AB0-60DE-4524-8968-9DCFFE690E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CD4D4BF-D859-4E01-9EA2-DB89D8228E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57EDF388-8BF8-4544-9611-D37960DD8D6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F414625-B325-4689-8ECF-7F367D7B5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CC34D484-9C99-442E-810C-9806C5929A5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A58C39D-1055-4EC5-9EA5-040D41FC26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AEB0DCF-901F-433B-8A8E-8AAA7BB306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6FDCB22C-BC7B-452B-8FFD-5B8D532BCC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3B9E431B-2CD6-49B0-BFD1-41059D69F6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E09F0C19-B865-413C-9DAF-867071A8266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0039791A-8515-4359-A1FC-4C8C75678E8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D44B1F5-142C-4E4B-AF5B-14AEB5A8C1A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CCF2F2D-294F-4936-9D1E-33C96F813B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9FC2A1-2445-4E09-878A-F433A61D01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8EB2257-4080-43FA-B974-7C443E961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C10EA5A-41E8-44E6-9725-82FB6F6692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0E92575-31AF-4E96-BF61-6BBBB97EBF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B63AF4A-6F13-45E0-805D-71F3D5FC75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A433A6-E035-48F9-B9A1-1ACD3D2FFB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7BC8A29-7056-413E-8231-C668AAA82A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5CAC4A-2C68-48F3-919C-40CF04707F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993E59-EFDA-42A5-B9B6-20DE488ECE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6F3865D-54F5-410B-9CEC-D16B162E56F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6D26DDB-2693-43C8-8483-ABEBFF81A32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35F2B994-7561-48B4-BA6D-4E39A5CEDE1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D1D643D-74AD-445A-8F42-BE0AA715A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D65B8717-EFCF-44F7-A1F0-D4A33E97EA6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10D4B4D0-D08A-408C-83D7-2227683594D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02EF68F4-023C-4E17-BCFA-DDED59D3B4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3F85B5D-0970-464C-B486-4684B09EFD4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97D91A75-64AF-4103-AAA6-DB74ABD74C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6629697-46A8-48C9-A19A-F1096AF7059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8F6116A8-EB34-420F-B285-A308862E77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64EEFF4D-85FA-448C-AEA0-F6B1527B303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B2D17106-DBE6-4031-89C6-2D77911DD98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39E8244-7CCA-40D4-8691-497300F14DB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3AFD615-A1A7-4D64-94EF-DF3B20348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F84FA7E-D878-4421-B721-55E08D29E2D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148D566C-B4ED-47C9-9C09-8858623D8DE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type="subTitle"/>
          </p:nvPr>
        </p:nvSpPr>
        <p:spPr>
          <a:xfrm>
            <a:off x="1011240" y="1811160"/>
            <a:ext cx="7121520" cy="31737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BA1EB695-3608-4E78-A2E2-1EBBB8EBE8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2CE05730-4E9E-4C29-A6A5-A3FF3407097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204177B6-1783-49A6-8095-C26DAC4B0E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5A1435F-9BBE-4021-BF5D-AE133DDF6C1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103400" y="1550880"/>
            <a:ext cx="6937200" cy="6168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915F0960-84F4-4E26-9ACA-CE2B20AC9D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E442EB2-3526-4081-985B-750965CDBB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4945F48C-FEEC-4404-9300-8F08E242DA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94E93E14-277C-43CF-B48E-ED83AC5F876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6056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9B69974-E873-4937-BF05-2F26FA873B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1011240" y="181116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99AC37B8-655C-48F3-B4D2-6915CCC65C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101124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5"/>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5723CCD1-6DB6-4608-9F38-DC4FEDE75FB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101124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341928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5826960" y="181116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5"/>
          <p:cNvSpPr>
            <a:spLocks noGrp="1"/>
          </p:cNvSpPr>
          <p:nvPr>
            <p:ph/>
          </p:nvPr>
        </p:nvSpPr>
        <p:spPr>
          <a:xfrm>
            <a:off x="101124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6"/>
          <p:cNvSpPr>
            <a:spLocks noGrp="1"/>
          </p:cNvSpPr>
          <p:nvPr>
            <p:ph/>
          </p:nvPr>
        </p:nvSpPr>
        <p:spPr>
          <a:xfrm>
            <a:off x="341928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7"/>
          <p:cNvSpPr>
            <a:spLocks noGrp="1"/>
          </p:cNvSpPr>
          <p:nvPr>
            <p:ph/>
          </p:nvPr>
        </p:nvSpPr>
        <p:spPr>
          <a:xfrm>
            <a:off x="5826960" y="3469320"/>
            <a:ext cx="229284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761D482B-AA44-4F53-A04D-A61F4C7877B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11240" y="1811160"/>
            <a:ext cx="347508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660560" y="346932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C615D90-51CD-4E90-962D-F026D2E79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101124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660560" y="1811160"/>
            <a:ext cx="347508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1011240" y="3469320"/>
            <a:ext cx="7121520" cy="1513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4320982-34AB-48E3-9527-A9417903AC4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k object 16"/>
          <p:cNvSpPr/>
          <p:nvPr/>
        </p:nvSpPr>
        <p:spPr>
          <a:xfrm>
            <a:off x="0" y="1000080"/>
            <a:ext cx="1238400" cy="55990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bk object 17"/>
          <p:cNvSpPr/>
          <p:nvPr/>
        </p:nvSpPr>
        <p:spPr>
          <a:xfrm>
            <a:off x="8245440" y="175248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bk object 18"/>
          <p:cNvSpPr/>
          <p:nvPr/>
        </p:nvSpPr>
        <p:spPr>
          <a:xfrm>
            <a:off x="8245440" y="259092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bk object 19"/>
          <p:cNvSpPr/>
          <p:nvPr/>
        </p:nvSpPr>
        <p:spPr>
          <a:xfrm>
            <a:off x="8245440" y="342900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bk object 20"/>
          <p:cNvSpPr/>
          <p:nvPr/>
        </p:nvSpPr>
        <p:spPr>
          <a:xfrm>
            <a:off x="8245440" y="425304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bk object 21"/>
          <p:cNvSpPr/>
          <p:nvPr/>
        </p:nvSpPr>
        <p:spPr>
          <a:xfrm>
            <a:off x="8245440" y="5103720"/>
            <a:ext cx="898560" cy="89856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1011240" y="1811160"/>
            <a:ext cx="7121520" cy="3173760"/>
          </a:xfrm>
          <a:prstGeom prst="rect">
            <a:avLst/>
          </a:prstGeom>
          <a:noFill/>
          <a:ln w="0">
            <a:noFill/>
          </a:ln>
        </p:spPr>
        <p:txBody>
          <a:bodyPr lIns="0" rIns="0" tIns="0" bIns="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 name="PlaceHolder 3"/>
          <p:cNvSpPr>
            <a:spLocks noGrp="1"/>
          </p:cNvSpPr>
          <p:nvPr>
            <p:ph type="ftr" idx="1"/>
          </p:nvPr>
        </p:nvSpPr>
        <p:spPr>
          <a:xfrm>
            <a:off x="7567200" y="6251040"/>
            <a:ext cx="1484280" cy="559080"/>
          </a:xfrm>
          <a:prstGeom prst="rect">
            <a:avLst/>
          </a:prstGeom>
          <a:noFill/>
          <a:ln w="0">
            <a:noFill/>
          </a:ln>
        </p:spPr>
        <p:txBody>
          <a:bodyPr lIns="0" rIns="0" tIns="0" bIns="0" anchor="t">
            <a:noAutofit/>
          </a:bodyPr>
          <a:lstStyle>
            <a:lvl1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400" spc="-1" strike="noStrike">
                <a:solidFill>
                  <a:srgbClr val="78b64a"/>
                </a:solidFill>
                <a:latin typeface="Arial"/>
                <a:ea typeface="Arial"/>
              </a:defRPr>
            </a:lvl1pPr>
          </a:lstStyle>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b64a"/>
                </a:solidFill>
                <a:latin typeface="Arial"/>
                <a:ea typeface="Arial"/>
              </a:rPr>
              <a:t>Humanitarian Imperative</a:t>
            </a:r>
            <a:endParaRPr b="0" lang="en-US" sz="2400" spc="-1" strike="noStrike">
              <a:solidFill>
                <a:srgbClr val="000000"/>
              </a:solidFill>
              <a:latin typeface="Times New Roman"/>
            </a:endParaRPr>
          </a:p>
        </p:txBody>
      </p:sp>
      <p:sp>
        <p:nvSpPr>
          <p:cNvPr id="9"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125E-5EDE-4AB5-B821-0569EDBCBF9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3B29-67D2-4706-8405-072ED650DDF0}"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bk object 16"/>
          <p:cNvSpPr/>
          <p:nvPr/>
        </p:nvSpPr>
        <p:spPr>
          <a:xfrm>
            <a:off x="0" y="1000080"/>
            <a:ext cx="1238400" cy="55990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bk object 17"/>
          <p:cNvSpPr/>
          <p:nvPr/>
        </p:nvSpPr>
        <p:spPr>
          <a:xfrm>
            <a:off x="8245440" y="175248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bk object 18"/>
          <p:cNvSpPr/>
          <p:nvPr/>
        </p:nvSpPr>
        <p:spPr>
          <a:xfrm>
            <a:off x="8245440" y="259092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bk object 19"/>
          <p:cNvSpPr/>
          <p:nvPr/>
        </p:nvSpPr>
        <p:spPr>
          <a:xfrm>
            <a:off x="8245440" y="342900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bk object 20"/>
          <p:cNvSpPr/>
          <p:nvPr/>
        </p:nvSpPr>
        <p:spPr>
          <a:xfrm>
            <a:off x="8245440" y="425304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bk object 21"/>
          <p:cNvSpPr/>
          <p:nvPr/>
        </p:nvSpPr>
        <p:spPr>
          <a:xfrm>
            <a:off x="8245440" y="5103720"/>
            <a:ext cx="898560" cy="89856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bk object 22"/>
          <p:cNvSpPr/>
          <p:nvPr/>
        </p:nvSpPr>
        <p:spPr>
          <a:xfrm>
            <a:off x="8245440" y="0"/>
            <a:ext cx="898560" cy="181296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bk object 2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6" name="bk object 24"/>
          <p:cNvSpPr/>
          <p:nvPr/>
        </p:nvSpPr>
        <p:spPr>
          <a:xfrm>
            <a:off x="0" y="0"/>
            <a:ext cx="7635960" cy="138744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1011240" y="1811160"/>
            <a:ext cx="7121520" cy="3173760"/>
          </a:xfrm>
          <a:prstGeom prst="rect">
            <a:avLst/>
          </a:prstGeom>
          <a:noFill/>
          <a:ln w="0">
            <a:noFill/>
          </a:ln>
        </p:spPr>
        <p:txBody>
          <a:bodyPr lIns="0" rIns="0" tIns="0" bIns="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9" name="PlaceHolder 3"/>
          <p:cNvSpPr>
            <a:spLocks noGrp="1"/>
          </p:cNvSpPr>
          <p:nvPr>
            <p:ph type="ftr" idx="7"/>
          </p:nvPr>
        </p:nvSpPr>
        <p:spPr>
          <a:xfrm>
            <a:off x="7567200" y="6251040"/>
            <a:ext cx="1484280" cy="559080"/>
          </a:xfrm>
          <a:prstGeom prst="rect">
            <a:avLst/>
          </a:prstGeom>
          <a:noFill/>
          <a:ln w="0">
            <a:noFill/>
          </a:ln>
        </p:spPr>
        <p:txBody>
          <a:bodyPr lIns="0" rIns="0" tIns="0" bIns="0" anchor="t">
            <a:noAutofit/>
          </a:bodyPr>
          <a:lstStyle>
            <a:lvl1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400" spc="-1" strike="noStrike">
                <a:solidFill>
                  <a:srgbClr val="78b64a"/>
                </a:solidFill>
                <a:latin typeface="Arial"/>
                <a:ea typeface="Arial"/>
              </a:defRPr>
            </a:lvl1pPr>
          </a:lstStyle>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b64a"/>
                </a:solidFill>
                <a:latin typeface="Arial"/>
                <a:ea typeface="Arial"/>
              </a:rPr>
              <a:t>Humanitarian Imperative</a:t>
            </a:r>
            <a:endParaRPr b="0" lang="en-US" sz="2400" spc="-1" strike="noStrike">
              <a:solidFill>
                <a:srgbClr val="000000"/>
              </a:solidFill>
              <a:latin typeface="Times New Roman"/>
            </a:endParaRPr>
          </a:p>
        </p:txBody>
      </p:sp>
      <p:sp>
        <p:nvSpPr>
          <p:cNvPr id="100" name="PlaceHolder 4"/>
          <p:cNvSpPr>
            <a:spLocks noGrp="1"/>
          </p:cNvSpPr>
          <p:nvPr>
            <p:ph type="dt" idx="8"/>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1" name="PlaceHolder 5"/>
          <p:cNvSpPr>
            <a:spLocks noGrp="1"/>
          </p:cNvSpPr>
          <p:nvPr>
            <p:ph type="sldNum" idx="9"/>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5108-B0D4-42FB-9D0A-8AF7292F83D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1011240" y="1811160"/>
            <a:ext cx="7121520" cy="3173760"/>
          </a:xfrm>
          <a:prstGeom prst="rect">
            <a:avLst/>
          </a:prstGeom>
          <a:noFill/>
          <a:ln w="0">
            <a:noFill/>
          </a:ln>
        </p:spPr>
        <p:txBody>
          <a:bodyPr lIns="0" rIns="0" tIns="0" bIns="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0" name="PlaceHolder 3"/>
          <p:cNvSpPr>
            <a:spLocks noGrp="1"/>
          </p:cNvSpPr>
          <p:nvPr>
            <p:ph type="ftr" idx="10"/>
          </p:nvPr>
        </p:nvSpPr>
        <p:spPr>
          <a:xfrm>
            <a:off x="7567200" y="6251040"/>
            <a:ext cx="1484280" cy="559080"/>
          </a:xfrm>
          <a:prstGeom prst="rect">
            <a:avLst/>
          </a:prstGeom>
          <a:noFill/>
          <a:ln w="0">
            <a:noFill/>
          </a:ln>
        </p:spPr>
        <p:txBody>
          <a:bodyPr lIns="0" rIns="0" tIns="0" bIns="0" anchor="t">
            <a:noAutofit/>
          </a:bodyPr>
          <a:lstStyle>
            <a:lvl1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400" spc="-1" strike="noStrike">
                <a:solidFill>
                  <a:srgbClr val="78b64a"/>
                </a:solidFill>
                <a:latin typeface="Arial"/>
                <a:ea typeface="Arial"/>
              </a:defRPr>
            </a:lvl1pPr>
          </a:lstStyle>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b64a"/>
                </a:solidFill>
                <a:latin typeface="Arial"/>
                <a:ea typeface="Arial"/>
              </a:rPr>
              <a:t>Humanitarian Imperative</a:t>
            </a:r>
            <a:endParaRPr b="0" lang="en-US" sz="2400" spc="-1" strike="noStrike">
              <a:solidFill>
                <a:srgbClr val="000000"/>
              </a:solidFill>
              <a:latin typeface="Times New Roman"/>
            </a:endParaRPr>
          </a:p>
        </p:txBody>
      </p:sp>
      <p:sp>
        <p:nvSpPr>
          <p:cNvPr id="141" name="PlaceHolder 4"/>
          <p:cNvSpPr>
            <a:spLocks noGrp="1"/>
          </p:cNvSpPr>
          <p:nvPr>
            <p:ph type="dt" idx="11"/>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 name="PlaceHolder 5"/>
          <p:cNvSpPr>
            <a:spLocks noGrp="1"/>
          </p:cNvSpPr>
          <p:nvPr>
            <p:ph type="sldNum" idx="12"/>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7113-D29B-48B7-AD4B-7AE90F95557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bk object 16"/>
          <p:cNvSpPr/>
          <p:nvPr/>
        </p:nvSpPr>
        <p:spPr>
          <a:xfrm>
            <a:off x="0" y="1000080"/>
            <a:ext cx="1238400" cy="55990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bk object 17"/>
          <p:cNvSpPr/>
          <p:nvPr/>
        </p:nvSpPr>
        <p:spPr>
          <a:xfrm>
            <a:off x="8245440" y="175248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bk object 18"/>
          <p:cNvSpPr/>
          <p:nvPr/>
        </p:nvSpPr>
        <p:spPr>
          <a:xfrm>
            <a:off x="8245440" y="259092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bk object 19"/>
          <p:cNvSpPr/>
          <p:nvPr/>
        </p:nvSpPr>
        <p:spPr>
          <a:xfrm>
            <a:off x="8245440" y="342900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bk object 20"/>
          <p:cNvSpPr/>
          <p:nvPr/>
        </p:nvSpPr>
        <p:spPr>
          <a:xfrm>
            <a:off x="8245440" y="425304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bk object 21"/>
          <p:cNvSpPr/>
          <p:nvPr/>
        </p:nvSpPr>
        <p:spPr>
          <a:xfrm>
            <a:off x="8245440" y="5103720"/>
            <a:ext cx="898560" cy="89856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bk object 22"/>
          <p:cNvSpPr/>
          <p:nvPr/>
        </p:nvSpPr>
        <p:spPr>
          <a:xfrm>
            <a:off x="8245440" y="0"/>
            <a:ext cx="898560" cy="181296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bk object 2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7" name="bk object 24"/>
          <p:cNvSpPr/>
          <p:nvPr/>
        </p:nvSpPr>
        <p:spPr>
          <a:xfrm>
            <a:off x="401760" y="231840"/>
            <a:ext cx="7529400" cy="143172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bk object 25"/>
          <p:cNvSpPr/>
          <p:nvPr/>
        </p:nvSpPr>
        <p:spPr>
          <a:xfrm>
            <a:off x="1295280" y="3367080"/>
            <a:ext cx="2141640" cy="1738440"/>
          </a:xfrm>
          <a:custGeom>
            <a:avLst/>
            <a:gdLst/>
            <a:ahLst/>
            <a:rect l="l" t="t" r="r" b="b"/>
            <a:pathLst>
              <a:path w="2141905" h="1737918">
                <a:moveTo>
                  <a:pt x="2141905" y="0"/>
                </a:moveTo>
                <a:lnTo>
                  <a:pt x="1059395" y="747318"/>
                </a:lnTo>
                <a:lnTo>
                  <a:pt x="159397" y="747415"/>
                </a:lnTo>
                <a:lnTo>
                  <a:pt x="144813" y="748552"/>
                </a:lnTo>
                <a:lnTo>
                  <a:pt x="103572" y="759165"/>
                </a:lnTo>
                <a:lnTo>
                  <a:pt x="67248" y="779428"/>
                </a:lnTo>
                <a:lnTo>
                  <a:pt x="37319" y="807865"/>
                </a:lnTo>
                <a:lnTo>
                  <a:pt x="15261" y="842998"/>
                </a:lnTo>
                <a:lnTo>
                  <a:pt x="2551" y="883349"/>
                </a:lnTo>
                <a:lnTo>
                  <a:pt x="0" y="912418"/>
                </a:lnTo>
                <a:lnTo>
                  <a:pt x="96" y="1578520"/>
                </a:lnTo>
                <a:lnTo>
                  <a:pt x="7162" y="1621073"/>
                </a:lnTo>
                <a:lnTo>
                  <a:pt x="24371" y="1659199"/>
                </a:lnTo>
                <a:lnTo>
                  <a:pt x="50246" y="1691424"/>
                </a:lnTo>
                <a:lnTo>
                  <a:pt x="83310" y="1716270"/>
                </a:lnTo>
                <a:lnTo>
                  <a:pt x="122087" y="1732260"/>
                </a:lnTo>
                <a:lnTo>
                  <a:pt x="165100" y="1737918"/>
                </a:lnTo>
                <a:lnTo>
                  <a:pt x="1656702" y="1737822"/>
                </a:lnTo>
                <a:lnTo>
                  <a:pt x="1699254" y="1730756"/>
                </a:lnTo>
                <a:lnTo>
                  <a:pt x="1737381" y="1713547"/>
                </a:lnTo>
                <a:lnTo>
                  <a:pt x="1769605" y="1687672"/>
                </a:lnTo>
                <a:lnTo>
                  <a:pt x="1794451" y="1654608"/>
                </a:lnTo>
                <a:lnTo>
                  <a:pt x="1810441" y="1615831"/>
                </a:lnTo>
                <a:lnTo>
                  <a:pt x="1816100" y="1572818"/>
                </a:lnTo>
                <a:lnTo>
                  <a:pt x="1816003" y="906717"/>
                </a:lnTo>
                <a:lnTo>
                  <a:pt x="1808937" y="864169"/>
                </a:lnTo>
                <a:lnTo>
                  <a:pt x="1791728" y="826043"/>
                </a:lnTo>
                <a:lnTo>
                  <a:pt x="1765853" y="793817"/>
                </a:lnTo>
                <a:lnTo>
                  <a:pt x="1732789" y="768970"/>
                </a:lnTo>
                <a:lnTo>
                  <a:pt x="1694012" y="752977"/>
                </a:lnTo>
                <a:lnTo>
                  <a:pt x="1651000" y="747318"/>
                </a:lnTo>
                <a:lnTo>
                  <a:pt x="1513420" y="747318"/>
                </a:lnTo>
                <a:lnTo>
                  <a:pt x="2141905" y="0"/>
                </a:lnTo>
                <a:close/>
              </a:path>
            </a:pathLst>
          </a:custGeom>
          <a:solidFill>
            <a:srgbClr val="0070c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9" name="bk object 26"/>
          <p:cNvSpPr/>
          <p:nvPr/>
        </p:nvSpPr>
        <p:spPr>
          <a:xfrm>
            <a:off x="1295280" y="3367080"/>
            <a:ext cx="2141640" cy="1738440"/>
          </a:xfrm>
          <a:custGeom>
            <a:avLst/>
            <a:gdLst/>
            <a:ahLst/>
            <a:rect l="l" t="t" r="r" b="b"/>
            <a:pathLst>
              <a:path w="2141905" h="1737918">
                <a:moveTo>
                  <a:pt x="1816100" y="1572818"/>
                </a:moveTo>
                <a:lnTo>
                  <a:pt x="1810441" y="1615831"/>
                </a:lnTo>
                <a:lnTo>
                  <a:pt x="1794451" y="1654608"/>
                </a:lnTo>
                <a:lnTo>
                  <a:pt x="1769605" y="1687672"/>
                </a:lnTo>
                <a:lnTo>
                  <a:pt x="1737381" y="1713547"/>
                </a:lnTo>
                <a:lnTo>
                  <a:pt x="1699254" y="1730756"/>
                </a:lnTo>
                <a:lnTo>
                  <a:pt x="1656702" y="1737822"/>
                </a:lnTo>
                <a:lnTo>
                  <a:pt x="1651000" y="1737918"/>
                </a:lnTo>
                <a:lnTo>
                  <a:pt x="1513420" y="1737918"/>
                </a:lnTo>
                <a:lnTo>
                  <a:pt x="1059395" y="1737918"/>
                </a:lnTo>
                <a:lnTo>
                  <a:pt x="165100" y="1737918"/>
                </a:lnTo>
                <a:lnTo>
                  <a:pt x="150382" y="1737271"/>
                </a:lnTo>
                <a:lnTo>
                  <a:pt x="136026" y="1735367"/>
                </a:lnTo>
                <a:lnTo>
                  <a:pt x="95673" y="1722657"/>
                </a:lnTo>
                <a:lnTo>
                  <a:pt x="60541" y="1700599"/>
                </a:lnTo>
                <a:lnTo>
                  <a:pt x="32106" y="1670670"/>
                </a:lnTo>
                <a:lnTo>
                  <a:pt x="11844" y="1634346"/>
                </a:lnTo>
                <a:lnTo>
                  <a:pt x="1233" y="1593105"/>
                </a:lnTo>
                <a:lnTo>
                  <a:pt x="0" y="1572818"/>
                </a:lnTo>
                <a:lnTo>
                  <a:pt x="0" y="1160068"/>
                </a:lnTo>
                <a:lnTo>
                  <a:pt x="0" y="912418"/>
                </a:lnTo>
                <a:lnTo>
                  <a:pt x="646" y="897703"/>
                </a:lnTo>
                <a:lnTo>
                  <a:pt x="2551" y="883349"/>
                </a:lnTo>
                <a:lnTo>
                  <a:pt x="15261" y="842998"/>
                </a:lnTo>
                <a:lnTo>
                  <a:pt x="37319" y="807865"/>
                </a:lnTo>
                <a:lnTo>
                  <a:pt x="67248" y="779428"/>
                </a:lnTo>
                <a:lnTo>
                  <a:pt x="103572" y="759165"/>
                </a:lnTo>
                <a:lnTo>
                  <a:pt x="144813" y="748552"/>
                </a:lnTo>
                <a:lnTo>
                  <a:pt x="165100" y="747318"/>
                </a:lnTo>
                <a:lnTo>
                  <a:pt x="1059395" y="747318"/>
                </a:lnTo>
                <a:lnTo>
                  <a:pt x="2141905" y="0"/>
                </a:lnTo>
                <a:lnTo>
                  <a:pt x="1513420" y="747318"/>
                </a:lnTo>
                <a:lnTo>
                  <a:pt x="1651000" y="747318"/>
                </a:lnTo>
                <a:lnTo>
                  <a:pt x="1665717" y="747965"/>
                </a:lnTo>
                <a:lnTo>
                  <a:pt x="1707482" y="757233"/>
                </a:lnTo>
                <a:lnTo>
                  <a:pt x="1744518" y="776341"/>
                </a:lnTo>
                <a:lnTo>
                  <a:pt x="1775350" y="803812"/>
                </a:lnTo>
                <a:lnTo>
                  <a:pt x="1798500" y="838169"/>
                </a:lnTo>
                <a:lnTo>
                  <a:pt x="1812492" y="877933"/>
                </a:lnTo>
                <a:lnTo>
                  <a:pt x="1816100" y="912418"/>
                </a:lnTo>
                <a:lnTo>
                  <a:pt x="1816100" y="1160068"/>
                </a:lnTo>
                <a:lnTo>
                  <a:pt x="1816100" y="1572818"/>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0"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 name="PlaceHolder 2"/>
          <p:cNvSpPr>
            <a:spLocks noGrp="1"/>
          </p:cNvSpPr>
          <p:nvPr>
            <p:ph type="body"/>
          </p:nvPr>
        </p:nvSpPr>
        <p:spPr>
          <a:xfrm>
            <a:off x="1011240" y="1811160"/>
            <a:ext cx="7121520" cy="3173760"/>
          </a:xfrm>
          <a:prstGeom prst="rect">
            <a:avLst/>
          </a:prstGeom>
          <a:noFill/>
          <a:ln w="0">
            <a:noFill/>
          </a:ln>
        </p:spPr>
        <p:txBody>
          <a:bodyPr lIns="0" rIns="0" tIns="0" bIns="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2" name="PlaceHolder 3"/>
          <p:cNvSpPr>
            <a:spLocks noGrp="1"/>
          </p:cNvSpPr>
          <p:nvPr>
            <p:ph type="ftr" idx="13"/>
          </p:nvPr>
        </p:nvSpPr>
        <p:spPr>
          <a:xfrm>
            <a:off x="7567200" y="6251040"/>
            <a:ext cx="1484280" cy="559080"/>
          </a:xfrm>
          <a:prstGeom prst="rect">
            <a:avLst/>
          </a:prstGeom>
          <a:noFill/>
          <a:ln w="0">
            <a:noFill/>
          </a:ln>
        </p:spPr>
        <p:txBody>
          <a:bodyPr lIns="0" rIns="0" tIns="0" bIns="0" anchor="t">
            <a:noAutofit/>
          </a:bodyPr>
          <a:lstStyle>
            <a:lvl1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400" spc="-1" strike="noStrike">
                <a:solidFill>
                  <a:srgbClr val="78b64a"/>
                </a:solidFill>
                <a:latin typeface="Arial"/>
                <a:ea typeface="Arial"/>
              </a:defRPr>
            </a:lvl1pPr>
          </a:lstStyle>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b64a"/>
                </a:solidFill>
                <a:latin typeface="Arial"/>
                <a:ea typeface="Arial"/>
              </a:rPr>
              <a:t>Humanitarian Imperative</a:t>
            </a:r>
            <a:endParaRPr b="0" lang="en-US" sz="2400" spc="-1" strike="noStrike">
              <a:solidFill>
                <a:srgbClr val="000000"/>
              </a:solidFill>
              <a:latin typeface="Times New Roman"/>
            </a:endParaRPr>
          </a:p>
        </p:txBody>
      </p:sp>
      <p:sp>
        <p:nvSpPr>
          <p:cNvPr id="193" name="PlaceHolder 4"/>
          <p:cNvSpPr>
            <a:spLocks noGrp="1"/>
          </p:cNvSpPr>
          <p:nvPr>
            <p:ph type="dt" idx="14"/>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4" name="PlaceHolder 5"/>
          <p:cNvSpPr>
            <a:spLocks noGrp="1"/>
          </p:cNvSpPr>
          <p:nvPr>
            <p:ph type="sldNum" idx="15"/>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6836-5704-4857-8BBF-9F1C5D593EA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bk object 16"/>
          <p:cNvSpPr/>
          <p:nvPr/>
        </p:nvSpPr>
        <p:spPr>
          <a:xfrm>
            <a:off x="0" y="1000080"/>
            <a:ext cx="1238400" cy="55990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bk object 17"/>
          <p:cNvSpPr/>
          <p:nvPr/>
        </p:nvSpPr>
        <p:spPr>
          <a:xfrm>
            <a:off x="8245440" y="175248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bk object 18"/>
          <p:cNvSpPr/>
          <p:nvPr/>
        </p:nvSpPr>
        <p:spPr>
          <a:xfrm>
            <a:off x="8245440" y="259092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bk object 19"/>
          <p:cNvSpPr/>
          <p:nvPr/>
        </p:nvSpPr>
        <p:spPr>
          <a:xfrm>
            <a:off x="8245440" y="342900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bk object 20"/>
          <p:cNvSpPr/>
          <p:nvPr/>
        </p:nvSpPr>
        <p:spPr>
          <a:xfrm>
            <a:off x="8245440" y="425304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bk object 21"/>
          <p:cNvSpPr/>
          <p:nvPr/>
        </p:nvSpPr>
        <p:spPr>
          <a:xfrm>
            <a:off x="8245440" y="5103720"/>
            <a:ext cx="898560" cy="89856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bk object 22"/>
          <p:cNvSpPr/>
          <p:nvPr/>
        </p:nvSpPr>
        <p:spPr>
          <a:xfrm>
            <a:off x="8245440" y="0"/>
            <a:ext cx="898560" cy="181296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bk object 2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9"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1011240" y="1811160"/>
            <a:ext cx="7121520" cy="3173760"/>
          </a:xfrm>
          <a:prstGeom prst="rect">
            <a:avLst/>
          </a:prstGeom>
          <a:noFill/>
          <a:ln w="0">
            <a:noFill/>
          </a:ln>
        </p:spPr>
        <p:txBody>
          <a:bodyPr lIns="0" rIns="0" tIns="0" bIns="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1" name="PlaceHolder 3"/>
          <p:cNvSpPr>
            <a:spLocks noGrp="1"/>
          </p:cNvSpPr>
          <p:nvPr>
            <p:ph type="ftr" idx="16"/>
          </p:nvPr>
        </p:nvSpPr>
        <p:spPr>
          <a:xfrm>
            <a:off x="7567200" y="6251040"/>
            <a:ext cx="1484280" cy="559080"/>
          </a:xfrm>
          <a:prstGeom prst="rect">
            <a:avLst/>
          </a:prstGeom>
          <a:noFill/>
          <a:ln w="0">
            <a:noFill/>
          </a:ln>
        </p:spPr>
        <p:txBody>
          <a:bodyPr lIns="0" rIns="0" tIns="0" bIns="0" anchor="t">
            <a:noAutofit/>
          </a:bodyPr>
          <a:lstStyle>
            <a:lvl1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400" spc="-1" strike="noStrike">
                <a:solidFill>
                  <a:srgbClr val="78b64a"/>
                </a:solidFill>
                <a:latin typeface="Arial"/>
                <a:ea typeface="Arial"/>
              </a:defRPr>
            </a:lvl1pPr>
          </a:lstStyle>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8b64a"/>
                </a:solidFill>
                <a:latin typeface="Arial"/>
                <a:ea typeface="Arial"/>
              </a:rPr>
              <a:t>Humanitarian Imperative</a:t>
            </a:r>
            <a:endParaRPr b="0" lang="en-US" sz="2400" spc="-1" strike="noStrike">
              <a:solidFill>
                <a:srgbClr val="000000"/>
              </a:solidFill>
              <a:latin typeface="Times New Roman"/>
            </a:endParaRPr>
          </a:p>
        </p:txBody>
      </p:sp>
      <p:sp>
        <p:nvSpPr>
          <p:cNvPr id="242" name="PlaceHolder 4"/>
          <p:cNvSpPr>
            <a:spLocks noGrp="1"/>
          </p:cNvSpPr>
          <p:nvPr>
            <p:ph type="dt" idx="17"/>
          </p:nvPr>
        </p:nvSpPr>
        <p:spPr>
          <a:xfrm>
            <a:off x="456840" y="6378120"/>
            <a:ext cx="2103480" cy="3430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6582960" y="6378120"/>
            <a:ext cx="2103480" cy="3430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1AB6-3F01-4A1B-8714-C2F53E9727C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1.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image" Target="../media/image56.png"/><Relationship Id="rId17" Type="http://schemas.openxmlformats.org/officeDocument/2006/relationships/image" Target="../media/image57.png"/><Relationship Id="rId18" Type="http://schemas.openxmlformats.org/officeDocument/2006/relationships/image" Target="../media/image58.png"/><Relationship Id="rId19" Type="http://schemas.openxmlformats.org/officeDocument/2006/relationships/image" Target="../media/image59.png"/><Relationship Id="rId20" Type="http://schemas.openxmlformats.org/officeDocument/2006/relationships/image" Target="../media/image37.jpeg"/><Relationship Id="rId2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914400" y="755280"/>
            <a:ext cx="7772400" cy="6172200"/>
          </a:xfrm>
          <a:prstGeom prst="rect">
            <a:avLst/>
          </a:prstGeom>
          <a:noFill/>
          <a:ln w="0">
            <a:noFill/>
          </a:ln>
        </p:spPr>
        <p:txBody>
          <a:bodyPr lIns="0" rIns="0" tIns="0" bIns="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4" name="TextBox 1"/>
          <p:cNvSpPr/>
          <p:nvPr/>
        </p:nvSpPr>
        <p:spPr>
          <a:xfrm>
            <a:off x="1295280" y="182880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ea typeface="Calibri"/>
              </a:rPr>
              <a:t>This PowerPoint should be used in conjunction with the accompanying session plan (see Topic </a:t>
            </a:r>
            <a:r>
              <a:rPr b="0" i="1" lang="en-GB" sz="2400" spc="-1" strike="noStrike">
                <a:solidFill>
                  <a:srgbClr val="000000"/>
                </a:solidFill>
                <a:latin typeface="Calibri"/>
              </a:rPr>
              <a:t>Overview of Sphere </a:t>
            </a:r>
            <a:r>
              <a:rPr b="0" lang="en-GB" sz="2400" spc="-1" strike="noStrike">
                <a:solidFill>
                  <a:srgbClr val="000000"/>
                </a:solidFill>
                <a:latin typeface="Calibri"/>
              </a:rPr>
              <a:t>of the session on</a:t>
            </a:r>
            <a:r>
              <a:rPr b="0" i="1" lang="en-GB" sz="2400" spc="-1" strike="noStrike">
                <a:solidFill>
                  <a:srgbClr val="000000"/>
                </a:solidFill>
                <a:latin typeface="Calibri"/>
              </a:rPr>
              <a:t> </a:t>
            </a:r>
            <a:r>
              <a:rPr b="1" lang="en-GB" sz="2400" spc="-1" strike="noStrike">
                <a:solidFill>
                  <a:srgbClr val="000000"/>
                </a:solidFill>
                <a:latin typeface="Calibri"/>
              </a:rPr>
              <a:t>Q&amp;A in Response to Typhoon Yolanda Protection Principles and Code of Conduct </a:t>
            </a:r>
            <a:r>
              <a:rPr b="0" lang="en-GB" sz="2400" spc="-1" strike="noStrike">
                <a:solidFill>
                  <a:srgbClr val="000000"/>
                </a:solidFill>
                <a:latin typeface="Calibri"/>
              </a:rPr>
              <a:t>by Uma Narayanan, Rizwan Iqbal, Yheleen Veso</a:t>
            </a:r>
            <a:r>
              <a:rPr b="0" i="1" lang="en-GB" sz="2400" spc="-1" strike="noStrike">
                <a:solidFill>
                  <a:srgbClr val="000000"/>
                </a:solidFill>
                <a:latin typeface="Calibri"/>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object 2"/>
          <p:cNvSpPr/>
          <p:nvPr/>
        </p:nvSpPr>
        <p:spPr>
          <a:xfrm>
            <a:off x="0" y="1000080"/>
            <a:ext cx="1143000" cy="5599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bject 3"/>
          <p:cNvSpPr/>
          <p:nvPr/>
        </p:nvSpPr>
        <p:spPr>
          <a:xfrm>
            <a:off x="0" y="6060960"/>
            <a:ext cx="9144000" cy="797040"/>
          </a:xfrm>
          <a:prstGeom prst="rect">
            <a:avLst/>
          </a:prstGeom>
          <a:noFill/>
          <a:ln w="0">
            <a:noFill/>
          </a:ln>
        </p:spPr>
        <p:style>
          <a:lnRef idx="0"/>
          <a:fillRef idx="0"/>
          <a:effectRef idx="0"/>
          <a:fontRef idx="minor"/>
        </p:style>
        <p:txBody>
          <a:bodyPr lIns="0" rIns="0" tIns="0" bIns="0" anchor="t">
            <a:normAutofit/>
          </a:bodyPr>
          <a:p>
            <a:pPr marL="3524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Right to life with dignity</a:t>
            </a:r>
            <a:endParaRPr b="0" lang="en-US" sz="1800" spc="-1" strike="noStrike">
              <a:solidFill>
                <a:srgbClr val="000000"/>
              </a:solidFill>
              <a:latin typeface="Calibri"/>
            </a:endParaRPr>
          </a:p>
        </p:txBody>
      </p:sp>
      <p:sp>
        <p:nvSpPr>
          <p:cNvPr id="343" name="object 4"/>
          <p:cNvSpPr/>
          <p:nvPr/>
        </p:nvSpPr>
        <p:spPr>
          <a:xfrm>
            <a:off x="0" y="0"/>
            <a:ext cx="9144000" cy="6858000"/>
          </a:xfrm>
          <a:custGeom>
            <a:avLst/>
            <a:gdLst/>
            <a:ahLst/>
            <a:rect l="l" t="t" r="r" b="b"/>
            <a:pathLst>
              <a:path w="9144000" h="6858000">
                <a:moveTo>
                  <a:pt x="0" y="6858000"/>
                </a:moveTo>
                <a:lnTo>
                  <a:pt x="9144000" y="6858000"/>
                </a:lnTo>
                <a:lnTo>
                  <a:pt x="9144000" y="0"/>
                </a:lnTo>
                <a:lnTo>
                  <a:pt x="0" y="0"/>
                </a:lnTo>
                <a:lnTo>
                  <a:pt x="0" y="6858000"/>
                </a:lnTo>
                <a:close/>
              </a:path>
            </a:pathLst>
          </a:custGeom>
          <a:solidFill>
            <a:srgbClr val="00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44" name="object 5"/>
          <p:cNvSpPr/>
          <p:nvPr/>
        </p:nvSpPr>
        <p:spPr>
          <a:xfrm>
            <a:off x="398520" y="228600"/>
            <a:ext cx="4554360" cy="64054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object 6"/>
          <p:cNvSpPr/>
          <p:nvPr/>
        </p:nvSpPr>
        <p:spPr>
          <a:xfrm>
            <a:off x="990720" y="1447920"/>
            <a:ext cx="2514600" cy="839520"/>
          </a:xfrm>
          <a:custGeom>
            <a:avLst/>
            <a:gdLst/>
            <a:ahLst/>
            <a:rect l="l" t="t" r="r" b="b"/>
            <a:pathLst>
              <a:path w="2514600" h="839038">
                <a:moveTo>
                  <a:pt x="0" y="419519"/>
                </a:moveTo>
                <a:lnTo>
                  <a:pt x="16455" y="351469"/>
                </a:lnTo>
                <a:lnTo>
                  <a:pt x="36540" y="318702"/>
                </a:lnTo>
                <a:lnTo>
                  <a:pt x="64098" y="286916"/>
                </a:lnTo>
                <a:lnTo>
                  <a:pt x="98805" y="256221"/>
                </a:lnTo>
                <a:lnTo>
                  <a:pt x="140337" y="226723"/>
                </a:lnTo>
                <a:lnTo>
                  <a:pt x="188373" y="198532"/>
                </a:lnTo>
                <a:lnTo>
                  <a:pt x="242586" y="171754"/>
                </a:lnTo>
                <a:lnTo>
                  <a:pt x="302655" y="146498"/>
                </a:lnTo>
                <a:lnTo>
                  <a:pt x="368255" y="122872"/>
                </a:lnTo>
                <a:lnTo>
                  <a:pt x="439063" y="100984"/>
                </a:lnTo>
                <a:lnTo>
                  <a:pt x="514755" y="80941"/>
                </a:lnTo>
                <a:lnTo>
                  <a:pt x="595009" y="62852"/>
                </a:lnTo>
                <a:lnTo>
                  <a:pt x="679499" y="46825"/>
                </a:lnTo>
                <a:lnTo>
                  <a:pt x="767903" y="32967"/>
                </a:lnTo>
                <a:lnTo>
                  <a:pt x="859896" y="21386"/>
                </a:lnTo>
                <a:lnTo>
                  <a:pt x="955157" y="12192"/>
                </a:lnTo>
                <a:lnTo>
                  <a:pt x="1053359" y="5490"/>
                </a:lnTo>
                <a:lnTo>
                  <a:pt x="1154182" y="1390"/>
                </a:lnTo>
                <a:lnTo>
                  <a:pt x="1257300" y="0"/>
                </a:lnTo>
                <a:lnTo>
                  <a:pt x="1360417" y="1390"/>
                </a:lnTo>
                <a:lnTo>
                  <a:pt x="1461240" y="5490"/>
                </a:lnTo>
                <a:lnTo>
                  <a:pt x="1559442" y="12192"/>
                </a:lnTo>
                <a:lnTo>
                  <a:pt x="1654703" y="21386"/>
                </a:lnTo>
                <a:lnTo>
                  <a:pt x="1746696" y="32967"/>
                </a:lnTo>
                <a:lnTo>
                  <a:pt x="1835100" y="46825"/>
                </a:lnTo>
                <a:lnTo>
                  <a:pt x="1919590" y="62852"/>
                </a:lnTo>
                <a:lnTo>
                  <a:pt x="1999844" y="80941"/>
                </a:lnTo>
                <a:lnTo>
                  <a:pt x="2075536" y="100984"/>
                </a:lnTo>
                <a:lnTo>
                  <a:pt x="2146344" y="122872"/>
                </a:lnTo>
                <a:lnTo>
                  <a:pt x="2211944" y="146498"/>
                </a:lnTo>
                <a:lnTo>
                  <a:pt x="2272013" y="171754"/>
                </a:lnTo>
                <a:lnTo>
                  <a:pt x="2326226" y="198532"/>
                </a:lnTo>
                <a:lnTo>
                  <a:pt x="2374262" y="226723"/>
                </a:lnTo>
                <a:lnTo>
                  <a:pt x="2415794" y="256221"/>
                </a:lnTo>
                <a:lnTo>
                  <a:pt x="2450501" y="286916"/>
                </a:lnTo>
                <a:lnTo>
                  <a:pt x="2478059" y="318702"/>
                </a:lnTo>
                <a:lnTo>
                  <a:pt x="2498144" y="351469"/>
                </a:lnTo>
                <a:lnTo>
                  <a:pt x="2514600" y="419519"/>
                </a:lnTo>
                <a:lnTo>
                  <a:pt x="2510432" y="453926"/>
                </a:lnTo>
                <a:lnTo>
                  <a:pt x="2498144" y="487568"/>
                </a:lnTo>
                <a:lnTo>
                  <a:pt x="2478059" y="520335"/>
                </a:lnTo>
                <a:lnTo>
                  <a:pt x="2450501" y="552121"/>
                </a:lnTo>
                <a:lnTo>
                  <a:pt x="2415794" y="582816"/>
                </a:lnTo>
                <a:lnTo>
                  <a:pt x="2374262" y="612314"/>
                </a:lnTo>
                <a:lnTo>
                  <a:pt x="2326226" y="640505"/>
                </a:lnTo>
                <a:lnTo>
                  <a:pt x="2272013" y="667283"/>
                </a:lnTo>
                <a:lnTo>
                  <a:pt x="2211944" y="692539"/>
                </a:lnTo>
                <a:lnTo>
                  <a:pt x="2146344" y="716165"/>
                </a:lnTo>
                <a:lnTo>
                  <a:pt x="2075536" y="738054"/>
                </a:lnTo>
                <a:lnTo>
                  <a:pt x="1999844" y="758096"/>
                </a:lnTo>
                <a:lnTo>
                  <a:pt x="1919590" y="776185"/>
                </a:lnTo>
                <a:lnTo>
                  <a:pt x="1835100" y="792213"/>
                </a:lnTo>
                <a:lnTo>
                  <a:pt x="1746696" y="806070"/>
                </a:lnTo>
                <a:lnTo>
                  <a:pt x="1654703" y="817651"/>
                </a:lnTo>
                <a:lnTo>
                  <a:pt x="1559442" y="826846"/>
                </a:lnTo>
                <a:lnTo>
                  <a:pt x="1461240" y="833547"/>
                </a:lnTo>
                <a:lnTo>
                  <a:pt x="1360417" y="837647"/>
                </a:lnTo>
                <a:lnTo>
                  <a:pt x="1257300" y="839038"/>
                </a:lnTo>
                <a:lnTo>
                  <a:pt x="1154182" y="837647"/>
                </a:lnTo>
                <a:lnTo>
                  <a:pt x="1053359" y="833547"/>
                </a:lnTo>
                <a:lnTo>
                  <a:pt x="955157" y="826846"/>
                </a:lnTo>
                <a:lnTo>
                  <a:pt x="859896" y="817651"/>
                </a:lnTo>
                <a:lnTo>
                  <a:pt x="767903" y="806070"/>
                </a:lnTo>
                <a:lnTo>
                  <a:pt x="679499" y="792213"/>
                </a:lnTo>
                <a:lnTo>
                  <a:pt x="595009" y="776185"/>
                </a:lnTo>
                <a:lnTo>
                  <a:pt x="514755" y="758096"/>
                </a:lnTo>
                <a:lnTo>
                  <a:pt x="439063" y="738054"/>
                </a:lnTo>
                <a:lnTo>
                  <a:pt x="368255" y="716165"/>
                </a:lnTo>
                <a:lnTo>
                  <a:pt x="302655" y="692539"/>
                </a:lnTo>
                <a:lnTo>
                  <a:pt x="242586" y="667283"/>
                </a:lnTo>
                <a:lnTo>
                  <a:pt x="188373" y="640505"/>
                </a:lnTo>
                <a:lnTo>
                  <a:pt x="140337" y="612314"/>
                </a:lnTo>
                <a:lnTo>
                  <a:pt x="98805" y="582816"/>
                </a:lnTo>
                <a:lnTo>
                  <a:pt x="64098" y="552121"/>
                </a:lnTo>
                <a:lnTo>
                  <a:pt x="36540" y="520335"/>
                </a:lnTo>
                <a:lnTo>
                  <a:pt x="16455" y="487568"/>
                </a:lnTo>
                <a:lnTo>
                  <a:pt x="0" y="419519"/>
                </a:lnTo>
                <a:close/>
              </a:path>
            </a:pathLst>
          </a:custGeom>
          <a:noFill/>
          <a:ln w="57240">
            <a:solidFill>
              <a:srgbClr val="ff33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46" name="object 7"/>
          <p:cNvSpPr/>
          <p:nvPr/>
        </p:nvSpPr>
        <p:spPr>
          <a:xfrm>
            <a:off x="762120" y="2209680"/>
            <a:ext cx="3047760" cy="990720"/>
          </a:xfrm>
          <a:custGeom>
            <a:avLst/>
            <a:gdLst/>
            <a:ahLst/>
            <a:rect l="l" t="t" r="r" b="b"/>
            <a:pathLst>
              <a:path w="3048000" h="990650">
                <a:moveTo>
                  <a:pt x="0" y="495325"/>
                </a:moveTo>
                <a:lnTo>
                  <a:pt x="5052" y="454701"/>
                </a:lnTo>
                <a:lnTo>
                  <a:pt x="19946" y="414981"/>
                </a:lnTo>
                <a:lnTo>
                  <a:pt x="44291" y="376293"/>
                </a:lnTo>
                <a:lnTo>
                  <a:pt x="77694" y="338765"/>
                </a:lnTo>
                <a:lnTo>
                  <a:pt x="119763" y="302523"/>
                </a:lnTo>
                <a:lnTo>
                  <a:pt x="170106" y="267696"/>
                </a:lnTo>
                <a:lnTo>
                  <a:pt x="228330" y="234410"/>
                </a:lnTo>
                <a:lnTo>
                  <a:pt x="294044" y="202793"/>
                </a:lnTo>
                <a:lnTo>
                  <a:pt x="366854" y="172974"/>
                </a:lnTo>
                <a:lnTo>
                  <a:pt x="446370" y="145078"/>
                </a:lnTo>
                <a:lnTo>
                  <a:pt x="532198" y="119234"/>
                </a:lnTo>
                <a:lnTo>
                  <a:pt x="623946" y="95569"/>
                </a:lnTo>
                <a:lnTo>
                  <a:pt x="721222" y="74211"/>
                </a:lnTo>
                <a:lnTo>
                  <a:pt x="823635" y="55287"/>
                </a:lnTo>
                <a:lnTo>
                  <a:pt x="930791" y="38925"/>
                </a:lnTo>
                <a:lnTo>
                  <a:pt x="1042298" y="25252"/>
                </a:lnTo>
                <a:lnTo>
                  <a:pt x="1157765" y="14395"/>
                </a:lnTo>
                <a:lnTo>
                  <a:pt x="1276799" y="6483"/>
                </a:lnTo>
                <a:lnTo>
                  <a:pt x="1399008" y="1642"/>
                </a:lnTo>
                <a:lnTo>
                  <a:pt x="1524000" y="0"/>
                </a:lnTo>
                <a:lnTo>
                  <a:pt x="1648991" y="1642"/>
                </a:lnTo>
                <a:lnTo>
                  <a:pt x="1771200" y="6483"/>
                </a:lnTo>
                <a:lnTo>
                  <a:pt x="1890234" y="14395"/>
                </a:lnTo>
                <a:lnTo>
                  <a:pt x="2005701" y="25252"/>
                </a:lnTo>
                <a:lnTo>
                  <a:pt x="2117208" y="38925"/>
                </a:lnTo>
                <a:lnTo>
                  <a:pt x="2224364" y="55287"/>
                </a:lnTo>
                <a:lnTo>
                  <a:pt x="2326777" y="74211"/>
                </a:lnTo>
                <a:lnTo>
                  <a:pt x="2424053" y="95569"/>
                </a:lnTo>
                <a:lnTo>
                  <a:pt x="2515801" y="119234"/>
                </a:lnTo>
                <a:lnTo>
                  <a:pt x="2601629" y="145078"/>
                </a:lnTo>
                <a:lnTo>
                  <a:pt x="2681145" y="172974"/>
                </a:lnTo>
                <a:lnTo>
                  <a:pt x="2753955" y="202793"/>
                </a:lnTo>
                <a:lnTo>
                  <a:pt x="2819669" y="234410"/>
                </a:lnTo>
                <a:lnTo>
                  <a:pt x="2877893" y="267696"/>
                </a:lnTo>
                <a:lnTo>
                  <a:pt x="2928236" y="302523"/>
                </a:lnTo>
                <a:lnTo>
                  <a:pt x="2970305" y="338765"/>
                </a:lnTo>
                <a:lnTo>
                  <a:pt x="3003708" y="376293"/>
                </a:lnTo>
                <a:lnTo>
                  <a:pt x="3028053" y="414981"/>
                </a:lnTo>
                <a:lnTo>
                  <a:pt x="3042947" y="454701"/>
                </a:lnTo>
                <a:lnTo>
                  <a:pt x="3048000" y="495325"/>
                </a:lnTo>
                <a:lnTo>
                  <a:pt x="3042947" y="535949"/>
                </a:lnTo>
                <a:lnTo>
                  <a:pt x="3028053" y="575669"/>
                </a:lnTo>
                <a:lnTo>
                  <a:pt x="3003708" y="614356"/>
                </a:lnTo>
                <a:lnTo>
                  <a:pt x="2970305" y="651885"/>
                </a:lnTo>
                <a:lnTo>
                  <a:pt x="2928236" y="688127"/>
                </a:lnTo>
                <a:lnTo>
                  <a:pt x="2877893" y="722954"/>
                </a:lnTo>
                <a:lnTo>
                  <a:pt x="2819669" y="756240"/>
                </a:lnTo>
                <a:lnTo>
                  <a:pt x="2753955" y="787856"/>
                </a:lnTo>
                <a:lnTo>
                  <a:pt x="2681145" y="817676"/>
                </a:lnTo>
                <a:lnTo>
                  <a:pt x="2601629" y="845572"/>
                </a:lnTo>
                <a:lnTo>
                  <a:pt x="2515801" y="871416"/>
                </a:lnTo>
                <a:lnTo>
                  <a:pt x="2424053" y="895080"/>
                </a:lnTo>
                <a:lnTo>
                  <a:pt x="2326777" y="916439"/>
                </a:lnTo>
                <a:lnTo>
                  <a:pt x="2224364" y="935362"/>
                </a:lnTo>
                <a:lnTo>
                  <a:pt x="2117208" y="951725"/>
                </a:lnTo>
                <a:lnTo>
                  <a:pt x="2005701" y="965398"/>
                </a:lnTo>
                <a:lnTo>
                  <a:pt x="1890234" y="976255"/>
                </a:lnTo>
                <a:lnTo>
                  <a:pt x="1771200" y="984167"/>
                </a:lnTo>
                <a:lnTo>
                  <a:pt x="1648991" y="989008"/>
                </a:lnTo>
                <a:lnTo>
                  <a:pt x="1524000" y="990650"/>
                </a:lnTo>
                <a:lnTo>
                  <a:pt x="1399008" y="989008"/>
                </a:lnTo>
                <a:lnTo>
                  <a:pt x="1276799" y="984167"/>
                </a:lnTo>
                <a:lnTo>
                  <a:pt x="1157765" y="976255"/>
                </a:lnTo>
                <a:lnTo>
                  <a:pt x="1042298" y="965398"/>
                </a:lnTo>
                <a:lnTo>
                  <a:pt x="930791" y="951725"/>
                </a:lnTo>
                <a:lnTo>
                  <a:pt x="823635" y="935362"/>
                </a:lnTo>
                <a:lnTo>
                  <a:pt x="721222" y="916439"/>
                </a:lnTo>
                <a:lnTo>
                  <a:pt x="623946" y="895080"/>
                </a:lnTo>
                <a:lnTo>
                  <a:pt x="532198" y="871416"/>
                </a:lnTo>
                <a:lnTo>
                  <a:pt x="446370" y="845572"/>
                </a:lnTo>
                <a:lnTo>
                  <a:pt x="366854" y="817676"/>
                </a:lnTo>
                <a:lnTo>
                  <a:pt x="294044" y="787856"/>
                </a:lnTo>
                <a:lnTo>
                  <a:pt x="228330" y="756240"/>
                </a:lnTo>
                <a:lnTo>
                  <a:pt x="170106" y="722954"/>
                </a:lnTo>
                <a:lnTo>
                  <a:pt x="119763" y="688127"/>
                </a:lnTo>
                <a:lnTo>
                  <a:pt x="77694" y="651885"/>
                </a:lnTo>
                <a:lnTo>
                  <a:pt x="44291" y="614356"/>
                </a:lnTo>
                <a:lnTo>
                  <a:pt x="19946" y="575669"/>
                </a:lnTo>
                <a:lnTo>
                  <a:pt x="5052" y="535949"/>
                </a:lnTo>
                <a:lnTo>
                  <a:pt x="0" y="495325"/>
                </a:lnTo>
                <a:close/>
              </a:path>
            </a:pathLst>
          </a:custGeom>
          <a:noFill/>
          <a:ln w="57240">
            <a:solidFill>
              <a:srgbClr val="ff33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47" name="object 8"/>
          <p:cNvSpPr/>
          <p:nvPr/>
        </p:nvSpPr>
        <p:spPr>
          <a:xfrm>
            <a:off x="3886200" y="2743200"/>
            <a:ext cx="1295280" cy="3886200"/>
          </a:xfrm>
          <a:custGeom>
            <a:avLst/>
            <a:gdLst/>
            <a:ahLst/>
            <a:rect l="l" t="t" r="r" b="b"/>
            <a:pathLst>
              <a:path w="1295400" h="3886200">
                <a:moveTo>
                  <a:pt x="0" y="1943100"/>
                </a:moveTo>
                <a:lnTo>
                  <a:pt x="2147" y="1783734"/>
                </a:lnTo>
                <a:lnTo>
                  <a:pt x="8477" y="1627917"/>
                </a:lnTo>
                <a:lnTo>
                  <a:pt x="18823" y="1476148"/>
                </a:lnTo>
                <a:lnTo>
                  <a:pt x="33019" y="1328928"/>
                </a:lnTo>
                <a:lnTo>
                  <a:pt x="50898" y="1186755"/>
                </a:lnTo>
                <a:lnTo>
                  <a:pt x="72293" y="1050131"/>
                </a:lnTo>
                <a:lnTo>
                  <a:pt x="97038" y="919555"/>
                </a:lnTo>
                <a:lnTo>
                  <a:pt x="124966" y="795528"/>
                </a:lnTo>
                <a:lnTo>
                  <a:pt x="155910" y="678549"/>
                </a:lnTo>
                <a:lnTo>
                  <a:pt x="189704" y="569118"/>
                </a:lnTo>
                <a:lnTo>
                  <a:pt x="226181" y="467737"/>
                </a:lnTo>
                <a:lnTo>
                  <a:pt x="265174" y="374904"/>
                </a:lnTo>
                <a:lnTo>
                  <a:pt x="306516" y="291119"/>
                </a:lnTo>
                <a:lnTo>
                  <a:pt x="350041" y="216884"/>
                </a:lnTo>
                <a:lnTo>
                  <a:pt x="395583" y="152697"/>
                </a:lnTo>
                <a:lnTo>
                  <a:pt x="442974" y="99060"/>
                </a:lnTo>
                <a:lnTo>
                  <a:pt x="492048" y="56471"/>
                </a:lnTo>
                <a:lnTo>
                  <a:pt x="542638" y="25431"/>
                </a:lnTo>
                <a:lnTo>
                  <a:pt x="594577" y="6441"/>
                </a:lnTo>
                <a:lnTo>
                  <a:pt x="647700" y="0"/>
                </a:lnTo>
                <a:lnTo>
                  <a:pt x="700822" y="6441"/>
                </a:lnTo>
                <a:lnTo>
                  <a:pt x="752761" y="25432"/>
                </a:lnTo>
                <a:lnTo>
                  <a:pt x="803351" y="56472"/>
                </a:lnTo>
                <a:lnTo>
                  <a:pt x="852425" y="99061"/>
                </a:lnTo>
                <a:lnTo>
                  <a:pt x="899816" y="152699"/>
                </a:lnTo>
                <a:lnTo>
                  <a:pt x="945358" y="216886"/>
                </a:lnTo>
                <a:lnTo>
                  <a:pt x="988883" y="291122"/>
                </a:lnTo>
                <a:lnTo>
                  <a:pt x="1030225" y="374907"/>
                </a:lnTo>
                <a:lnTo>
                  <a:pt x="1069218" y="467741"/>
                </a:lnTo>
                <a:lnTo>
                  <a:pt x="1105695" y="569123"/>
                </a:lnTo>
                <a:lnTo>
                  <a:pt x="1139489" y="678554"/>
                </a:lnTo>
                <a:lnTo>
                  <a:pt x="1170433" y="795533"/>
                </a:lnTo>
                <a:lnTo>
                  <a:pt x="1198361" y="919561"/>
                </a:lnTo>
                <a:lnTo>
                  <a:pt x="1223106" y="1050136"/>
                </a:lnTo>
                <a:lnTo>
                  <a:pt x="1244501" y="1186760"/>
                </a:lnTo>
                <a:lnTo>
                  <a:pt x="1262380" y="1328932"/>
                </a:lnTo>
                <a:lnTo>
                  <a:pt x="1276576" y="1476152"/>
                </a:lnTo>
                <a:lnTo>
                  <a:pt x="1286922" y="1627920"/>
                </a:lnTo>
                <a:lnTo>
                  <a:pt x="1293252" y="1783736"/>
                </a:lnTo>
                <a:lnTo>
                  <a:pt x="1295400" y="1943100"/>
                </a:lnTo>
                <a:lnTo>
                  <a:pt x="1293252" y="2102465"/>
                </a:lnTo>
                <a:lnTo>
                  <a:pt x="1286922" y="2258282"/>
                </a:lnTo>
                <a:lnTo>
                  <a:pt x="1276576" y="2410051"/>
                </a:lnTo>
                <a:lnTo>
                  <a:pt x="1262380" y="2557272"/>
                </a:lnTo>
                <a:lnTo>
                  <a:pt x="1244501" y="2699444"/>
                </a:lnTo>
                <a:lnTo>
                  <a:pt x="1223106" y="2836068"/>
                </a:lnTo>
                <a:lnTo>
                  <a:pt x="1198361" y="2966644"/>
                </a:lnTo>
                <a:lnTo>
                  <a:pt x="1170433" y="3090672"/>
                </a:lnTo>
                <a:lnTo>
                  <a:pt x="1139489" y="3207650"/>
                </a:lnTo>
                <a:lnTo>
                  <a:pt x="1105695" y="3317081"/>
                </a:lnTo>
                <a:lnTo>
                  <a:pt x="1069218" y="3418462"/>
                </a:lnTo>
                <a:lnTo>
                  <a:pt x="1030225" y="3511296"/>
                </a:lnTo>
                <a:lnTo>
                  <a:pt x="988883" y="3595080"/>
                </a:lnTo>
                <a:lnTo>
                  <a:pt x="945358" y="3669315"/>
                </a:lnTo>
                <a:lnTo>
                  <a:pt x="899816" y="3733502"/>
                </a:lnTo>
                <a:lnTo>
                  <a:pt x="852425" y="3787140"/>
                </a:lnTo>
                <a:lnTo>
                  <a:pt x="803351" y="3829728"/>
                </a:lnTo>
                <a:lnTo>
                  <a:pt x="752761" y="3860768"/>
                </a:lnTo>
                <a:lnTo>
                  <a:pt x="700822" y="3879758"/>
                </a:lnTo>
                <a:lnTo>
                  <a:pt x="647700" y="3886200"/>
                </a:lnTo>
                <a:lnTo>
                  <a:pt x="594579" y="3879758"/>
                </a:lnTo>
                <a:lnTo>
                  <a:pt x="542641" y="3860768"/>
                </a:lnTo>
                <a:lnTo>
                  <a:pt x="492052" y="3829728"/>
                </a:lnTo>
                <a:lnTo>
                  <a:pt x="442979" y="3787140"/>
                </a:lnTo>
                <a:lnTo>
                  <a:pt x="395588" y="3733502"/>
                </a:lnTo>
                <a:lnTo>
                  <a:pt x="350047" y="3669315"/>
                </a:lnTo>
                <a:lnTo>
                  <a:pt x="306522" y="3595080"/>
                </a:lnTo>
                <a:lnTo>
                  <a:pt x="265179" y="3511296"/>
                </a:lnTo>
                <a:lnTo>
                  <a:pt x="226186" y="3418462"/>
                </a:lnTo>
                <a:lnTo>
                  <a:pt x="189709" y="3317081"/>
                </a:lnTo>
                <a:lnTo>
                  <a:pt x="155915" y="3207650"/>
                </a:lnTo>
                <a:lnTo>
                  <a:pt x="124970" y="3090672"/>
                </a:lnTo>
                <a:lnTo>
                  <a:pt x="97041" y="2966644"/>
                </a:lnTo>
                <a:lnTo>
                  <a:pt x="72296" y="2836068"/>
                </a:lnTo>
                <a:lnTo>
                  <a:pt x="50900" y="2699444"/>
                </a:lnTo>
                <a:lnTo>
                  <a:pt x="33020" y="2557272"/>
                </a:lnTo>
                <a:lnTo>
                  <a:pt x="18824" y="2410051"/>
                </a:lnTo>
                <a:lnTo>
                  <a:pt x="8477" y="2258282"/>
                </a:lnTo>
                <a:lnTo>
                  <a:pt x="2147" y="2102465"/>
                </a:lnTo>
                <a:lnTo>
                  <a:pt x="0" y="1943100"/>
                </a:lnTo>
                <a:close/>
              </a:path>
            </a:pathLst>
          </a:custGeom>
          <a:noFill/>
          <a:ln w="57240">
            <a:solidFill>
              <a:srgbClr val="ff33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48" name="object 9"/>
          <p:cNvSpPr/>
          <p:nvPr/>
        </p:nvSpPr>
        <p:spPr>
          <a:xfrm>
            <a:off x="473040" y="685800"/>
            <a:ext cx="3946680" cy="990720"/>
          </a:xfrm>
          <a:custGeom>
            <a:avLst/>
            <a:gdLst/>
            <a:ahLst/>
            <a:rect l="l" t="t" r="r" b="b"/>
            <a:pathLst>
              <a:path w="3946855" h="990600">
                <a:moveTo>
                  <a:pt x="0" y="495300"/>
                </a:moveTo>
                <a:lnTo>
                  <a:pt x="6541" y="454677"/>
                </a:lnTo>
                <a:lnTo>
                  <a:pt x="25828" y="414960"/>
                </a:lnTo>
                <a:lnTo>
                  <a:pt x="57353" y="376274"/>
                </a:lnTo>
                <a:lnTo>
                  <a:pt x="100607" y="338747"/>
                </a:lnTo>
                <a:lnTo>
                  <a:pt x="155082" y="302507"/>
                </a:lnTo>
                <a:lnTo>
                  <a:pt x="220271" y="267681"/>
                </a:lnTo>
                <a:lnTo>
                  <a:pt x="295666" y="234397"/>
                </a:lnTo>
                <a:lnTo>
                  <a:pt x="380758" y="202782"/>
                </a:lnTo>
                <a:lnTo>
                  <a:pt x="475041" y="172964"/>
                </a:lnTo>
                <a:lnTo>
                  <a:pt x="578005" y="145070"/>
                </a:lnTo>
                <a:lnTo>
                  <a:pt x="689144" y="119228"/>
                </a:lnTo>
                <a:lnTo>
                  <a:pt x="807949" y="95564"/>
                </a:lnTo>
                <a:lnTo>
                  <a:pt x="933912" y="74207"/>
                </a:lnTo>
                <a:lnTo>
                  <a:pt x="1066526" y="55284"/>
                </a:lnTo>
                <a:lnTo>
                  <a:pt x="1205282" y="38923"/>
                </a:lnTo>
                <a:lnTo>
                  <a:pt x="1349673" y="25250"/>
                </a:lnTo>
                <a:lnTo>
                  <a:pt x="1499191" y="14394"/>
                </a:lnTo>
                <a:lnTo>
                  <a:pt x="1653328" y="6482"/>
                </a:lnTo>
                <a:lnTo>
                  <a:pt x="1811576" y="1641"/>
                </a:lnTo>
                <a:lnTo>
                  <a:pt x="1973427" y="0"/>
                </a:lnTo>
                <a:lnTo>
                  <a:pt x="2135278" y="1641"/>
                </a:lnTo>
                <a:lnTo>
                  <a:pt x="2293526" y="6482"/>
                </a:lnTo>
                <a:lnTo>
                  <a:pt x="2447663" y="14394"/>
                </a:lnTo>
                <a:lnTo>
                  <a:pt x="2597181" y="25250"/>
                </a:lnTo>
                <a:lnTo>
                  <a:pt x="2741572" y="38923"/>
                </a:lnTo>
                <a:lnTo>
                  <a:pt x="2880328" y="55284"/>
                </a:lnTo>
                <a:lnTo>
                  <a:pt x="3012942" y="74207"/>
                </a:lnTo>
                <a:lnTo>
                  <a:pt x="3138905" y="95564"/>
                </a:lnTo>
                <a:lnTo>
                  <a:pt x="3257710" y="119228"/>
                </a:lnTo>
                <a:lnTo>
                  <a:pt x="3368849" y="145070"/>
                </a:lnTo>
                <a:lnTo>
                  <a:pt x="3471814" y="172964"/>
                </a:lnTo>
                <a:lnTo>
                  <a:pt x="3566096" y="202782"/>
                </a:lnTo>
                <a:lnTo>
                  <a:pt x="3651189" y="234397"/>
                </a:lnTo>
                <a:lnTo>
                  <a:pt x="3726583" y="267681"/>
                </a:lnTo>
                <a:lnTo>
                  <a:pt x="3791772" y="302507"/>
                </a:lnTo>
                <a:lnTo>
                  <a:pt x="3846248" y="338747"/>
                </a:lnTo>
                <a:lnTo>
                  <a:pt x="3889501" y="376274"/>
                </a:lnTo>
                <a:lnTo>
                  <a:pt x="3921026" y="414960"/>
                </a:lnTo>
                <a:lnTo>
                  <a:pt x="3940313" y="454677"/>
                </a:lnTo>
                <a:lnTo>
                  <a:pt x="3946855" y="495300"/>
                </a:lnTo>
                <a:lnTo>
                  <a:pt x="3940313" y="535923"/>
                </a:lnTo>
                <a:lnTo>
                  <a:pt x="3921026" y="575642"/>
                </a:lnTo>
                <a:lnTo>
                  <a:pt x="3889501" y="614330"/>
                </a:lnTo>
                <a:lnTo>
                  <a:pt x="3846248" y="651857"/>
                </a:lnTo>
                <a:lnTo>
                  <a:pt x="3791772" y="688097"/>
                </a:lnTo>
                <a:lnTo>
                  <a:pt x="3726583" y="722923"/>
                </a:lnTo>
                <a:lnTo>
                  <a:pt x="3651189" y="756207"/>
                </a:lnTo>
                <a:lnTo>
                  <a:pt x="3566096" y="787822"/>
                </a:lnTo>
                <a:lnTo>
                  <a:pt x="3471814" y="817640"/>
                </a:lnTo>
                <a:lnTo>
                  <a:pt x="3368849" y="845534"/>
                </a:lnTo>
                <a:lnTo>
                  <a:pt x="3257710" y="871376"/>
                </a:lnTo>
                <a:lnTo>
                  <a:pt x="3138905" y="895039"/>
                </a:lnTo>
                <a:lnTo>
                  <a:pt x="3012942" y="916395"/>
                </a:lnTo>
                <a:lnTo>
                  <a:pt x="2880328" y="935317"/>
                </a:lnTo>
                <a:lnTo>
                  <a:pt x="2741572" y="951678"/>
                </a:lnTo>
                <a:lnTo>
                  <a:pt x="2597181" y="965350"/>
                </a:lnTo>
                <a:lnTo>
                  <a:pt x="2447663" y="976205"/>
                </a:lnTo>
                <a:lnTo>
                  <a:pt x="2293526" y="984117"/>
                </a:lnTo>
                <a:lnTo>
                  <a:pt x="2135278" y="988958"/>
                </a:lnTo>
                <a:lnTo>
                  <a:pt x="1973427" y="990600"/>
                </a:lnTo>
                <a:lnTo>
                  <a:pt x="1811576" y="988958"/>
                </a:lnTo>
                <a:lnTo>
                  <a:pt x="1653328" y="984117"/>
                </a:lnTo>
                <a:lnTo>
                  <a:pt x="1499191" y="976205"/>
                </a:lnTo>
                <a:lnTo>
                  <a:pt x="1349673" y="965350"/>
                </a:lnTo>
                <a:lnTo>
                  <a:pt x="1205282" y="951678"/>
                </a:lnTo>
                <a:lnTo>
                  <a:pt x="1066526" y="935317"/>
                </a:lnTo>
                <a:lnTo>
                  <a:pt x="933912" y="916395"/>
                </a:lnTo>
                <a:lnTo>
                  <a:pt x="807949" y="895039"/>
                </a:lnTo>
                <a:lnTo>
                  <a:pt x="689144" y="871376"/>
                </a:lnTo>
                <a:lnTo>
                  <a:pt x="578005" y="845534"/>
                </a:lnTo>
                <a:lnTo>
                  <a:pt x="475041" y="817640"/>
                </a:lnTo>
                <a:lnTo>
                  <a:pt x="380758" y="787822"/>
                </a:lnTo>
                <a:lnTo>
                  <a:pt x="295666" y="756207"/>
                </a:lnTo>
                <a:lnTo>
                  <a:pt x="220271" y="722923"/>
                </a:lnTo>
                <a:lnTo>
                  <a:pt x="155082" y="688097"/>
                </a:lnTo>
                <a:lnTo>
                  <a:pt x="100607" y="651857"/>
                </a:lnTo>
                <a:lnTo>
                  <a:pt x="57353" y="614330"/>
                </a:lnTo>
                <a:lnTo>
                  <a:pt x="25828" y="575642"/>
                </a:lnTo>
                <a:lnTo>
                  <a:pt x="6541" y="535923"/>
                </a:lnTo>
                <a:lnTo>
                  <a:pt x="0" y="495300"/>
                </a:lnTo>
                <a:close/>
              </a:path>
            </a:pathLst>
          </a:custGeom>
          <a:noFill/>
          <a:ln w="57240">
            <a:solidFill>
              <a:srgbClr val="ff33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49" name="object 10"/>
          <p:cNvSpPr/>
          <p:nvPr/>
        </p:nvSpPr>
        <p:spPr>
          <a:xfrm>
            <a:off x="5353200" y="1181160"/>
            <a:ext cx="3508200" cy="1523880"/>
          </a:xfrm>
          <a:prstGeom prst="rect">
            <a:avLst/>
          </a:prstGeom>
          <a:noFill/>
          <a:ln w="0">
            <a:noFill/>
          </a:ln>
        </p:spPr>
        <p:style>
          <a:lnRef idx="0"/>
          <a:fillRef idx="0"/>
          <a:effectRef idx="0"/>
          <a:fontRef idx="minor"/>
        </p:style>
        <p:txBody>
          <a:bodyPr lIns="0" rIns="0" tIns="0" bIns="0" anchor="t">
            <a:norm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Your notes and tabs</a:t>
            </a:r>
            <a:endParaRPr b="0" lang="en-US" sz="2000" spc="-1" strike="noStrike">
              <a:solidFill>
                <a:srgbClr val="000000"/>
              </a:solidFill>
              <a:latin typeface="Calibri"/>
            </a:endParaRPr>
          </a:p>
          <a:p>
            <a:pPr marL="12600">
              <a:lnSpc>
                <a:spcPts val="7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Humanitarian Charter and Protection Principles - </a:t>
            </a:r>
            <a:r>
              <a:rPr b="1" i="1" lang="en-US" sz="1600" spc="-1" strike="noStrike">
                <a:solidFill>
                  <a:srgbClr val="ffffff"/>
                </a:solidFill>
                <a:latin typeface="Arial"/>
                <a:ea typeface="Arial"/>
              </a:rPr>
              <a:t>rights based approach</a:t>
            </a:r>
            <a:endParaRPr b="0" lang="en-US" sz="1600" spc="-1" strike="noStrike">
              <a:solidFill>
                <a:srgbClr val="000000"/>
              </a:solidFill>
              <a:latin typeface="Calibri"/>
            </a:endParaRPr>
          </a:p>
        </p:txBody>
      </p:sp>
      <p:sp>
        <p:nvSpPr>
          <p:cNvPr id="350" name="object 11"/>
          <p:cNvSpPr/>
          <p:nvPr/>
        </p:nvSpPr>
        <p:spPr>
          <a:xfrm>
            <a:off x="5489640" y="3695760"/>
            <a:ext cx="3540240" cy="620640"/>
          </a:xfrm>
          <a:prstGeom prst="rect">
            <a:avLst/>
          </a:prstGeom>
          <a:noFill/>
          <a:ln w="0">
            <a:noFill/>
          </a:ln>
        </p:spPr>
        <p:style>
          <a:lnRef idx="0"/>
          <a:fillRef idx="0"/>
          <a:effectRef idx="0"/>
          <a:fontRef idx="minor"/>
        </p:style>
        <p:txBody>
          <a:bodyPr lIns="0" rIns="0" tIns="0" bIns="0" anchor="t">
            <a:norm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andards </a:t>
            </a:r>
            <a:r>
              <a:rPr b="1" i="1" lang="en-US" sz="2000" spc="-1" strike="noStrike">
                <a:solidFill>
                  <a:srgbClr val="ffffff"/>
                </a:solidFill>
                <a:latin typeface="Arial"/>
                <a:ea typeface="Arial"/>
              </a:rPr>
              <a:t>and indicators</a:t>
            </a:r>
            <a:r>
              <a:rPr b="1" lang="en-US" sz="2000" spc="-1" strike="noStrike">
                <a:solidFill>
                  <a:srgbClr val="ffffff"/>
                </a:solidFill>
                <a:latin typeface="Arial"/>
                <a:ea typeface="Arial"/>
              </a:rPr>
              <a:t>- </a:t>
            </a:r>
            <a:r>
              <a:rPr b="1" i="1" lang="en-US" sz="2000" spc="-1" strike="noStrike">
                <a:solidFill>
                  <a:srgbClr val="ffffff"/>
                </a:solidFill>
                <a:latin typeface="Arial"/>
                <a:ea typeface="Arial"/>
              </a:rPr>
              <a:t>experience- -based approach</a:t>
            </a:r>
            <a:endParaRPr b="0" lang="en-US" sz="2000" spc="-1" strike="noStrike">
              <a:solidFill>
                <a:srgbClr val="000000"/>
              </a:solidFill>
              <a:latin typeface="Calibri"/>
            </a:endParaRPr>
          </a:p>
        </p:txBody>
      </p:sp>
      <p:sp>
        <p:nvSpPr>
          <p:cNvPr id="351" name="object 12"/>
          <p:cNvSpPr/>
          <p:nvPr/>
        </p:nvSpPr>
        <p:spPr>
          <a:xfrm>
            <a:off x="5459400" y="5315040"/>
            <a:ext cx="3552840" cy="620640"/>
          </a:xfrm>
          <a:prstGeom prst="rect">
            <a:avLst/>
          </a:prstGeom>
          <a:noFill/>
          <a:ln w="0">
            <a:noFill/>
          </a:ln>
        </p:spPr>
        <p:style>
          <a:lnRef idx="0"/>
          <a:fillRef idx="0"/>
          <a:effectRef idx="0"/>
          <a:fontRef idx="minor"/>
        </p:style>
        <p:txBody>
          <a:bodyPr lIns="0" rIns="0" tIns="0" bIns="0" anchor="t">
            <a:noAutofit/>
          </a:bodyPr>
          <a:p>
            <a:pPr marL="237960" indent="-225360">
              <a:lnSpc>
                <a:spcPct val="100000"/>
              </a:lnSpc>
              <a:buClr>
                <a:srgbClr val="ffffff"/>
              </a:buClr>
              <a:buFont typeface="Arial"/>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 set of common standards</a:t>
            </a:r>
            <a:endParaRPr b="0" lang="en-US" sz="2000" spc="-1" strike="noStrike">
              <a:solidFill>
                <a:srgbClr val="000000"/>
              </a:solidFill>
              <a:latin typeface="Calibri"/>
            </a:endParaRPr>
          </a:p>
          <a:p>
            <a:pPr marL="237960" indent="-225360">
              <a:lnSpc>
                <a:spcPct val="100000"/>
              </a:lnSpc>
              <a:buClr>
                <a:srgbClr val="ffffff"/>
              </a:buClr>
              <a:buFont typeface="Arial"/>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 technical chapters</a:t>
            </a:r>
            <a:endParaRPr b="0" lang="en-US" sz="2000" spc="-1" strike="noStrike">
              <a:solidFill>
                <a:srgbClr val="000000"/>
              </a:solidFill>
              <a:latin typeface="Calibri"/>
            </a:endParaRPr>
          </a:p>
        </p:txBody>
      </p:sp>
      <p:sp>
        <p:nvSpPr>
          <p:cNvPr id="352" name="object 13"/>
          <p:cNvSpPr/>
          <p:nvPr/>
        </p:nvSpPr>
        <p:spPr>
          <a:xfrm>
            <a:off x="5587920" y="260280"/>
            <a:ext cx="3154320" cy="604800"/>
          </a:xfrm>
          <a:prstGeom prst="rect">
            <a:avLst/>
          </a:prstGeom>
          <a:noFill/>
          <a:ln w="0">
            <a:noFill/>
          </a:ln>
        </p:spPr>
        <p:style>
          <a:lnRef idx="0"/>
          <a:fillRef idx="0"/>
          <a:effectRef idx="0"/>
          <a:fontRef idx="minor"/>
        </p:style>
        <p:txBody>
          <a:bodyPr lIns="0" rIns="0" tIns="0" bIns="0" anchor="t">
            <a:noAutofit/>
          </a:bodyPr>
          <a:p>
            <a:pPr marL="12600">
              <a:lnSpc>
                <a:spcPts val="47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YOUR BOOK</a:t>
            </a:r>
            <a:endParaRPr b="0" lang="en-US" sz="4000" spc="-1" strike="noStrike">
              <a:solidFill>
                <a:srgbClr val="000000"/>
              </a:solidFill>
              <a:latin typeface="Calibri"/>
            </a:endParaRPr>
          </a:p>
        </p:txBody>
      </p:sp>
      <p:sp>
        <p:nvSpPr>
          <p:cNvPr id="353" name="object 14"/>
          <p:cNvSpPr/>
          <p:nvPr/>
        </p:nvSpPr>
        <p:spPr>
          <a:xfrm>
            <a:off x="4952880" y="1905120"/>
            <a:ext cx="304920" cy="457200"/>
          </a:xfrm>
          <a:custGeom>
            <a:avLst/>
            <a:gdLst/>
            <a:ahLst/>
            <a:rect l="l" t="t" r="r" b="b"/>
            <a:pathLst>
              <a:path w="304800" h="457200">
                <a:moveTo>
                  <a:pt x="0" y="457200"/>
                </a:moveTo>
                <a:lnTo>
                  <a:pt x="304800" y="457200"/>
                </a:lnTo>
                <a:lnTo>
                  <a:pt x="304800" y="0"/>
                </a:lnTo>
                <a:lnTo>
                  <a:pt x="0" y="0"/>
                </a:lnTo>
                <a:lnTo>
                  <a:pt x="0" y="457200"/>
                </a:lnTo>
                <a:close/>
              </a:path>
            </a:pathLst>
          </a:custGeom>
          <a:solidFill>
            <a:srgbClr val="4f81b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54" name="object 15"/>
          <p:cNvSpPr/>
          <p:nvPr/>
        </p:nvSpPr>
        <p:spPr>
          <a:xfrm>
            <a:off x="4952880" y="2895480"/>
            <a:ext cx="304920" cy="685800"/>
          </a:xfrm>
          <a:custGeom>
            <a:avLst/>
            <a:gdLst/>
            <a:ahLst/>
            <a:rect l="l" t="t" r="r" b="b"/>
            <a:pathLst>
              <a:path w="304800" h="685800">
                <a:moveTo>
                  <a:pt x="0" y="0"/>
                </a:moveTo>
                <a:lnTo>
                  <a:pt x="304800" y="0"/>
                </a:lnTo>
                <a:lnTo>
                  <a:pt x="304800" y="685800"/>
                </a:lnTo>
                <a:lnTo>
                  <a:pt x="0" y="685800"/>
                </a:lnTo>
                <a:lnTo>
                  <a:pt x="0" y="0"/>
                </a:lnTo>
                <a:close/>
              </a:path>
            </a:pathLst>
          </a:custGeom>
          <a:solidFill>
            <a:srgbClr val="4f81b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55" name="object 16"/>
          <p:cNvSpPr/>
          <p:nvPr/>
        </p:nvSpPr>
        <p:spPr>
          <a:xfrm>
            <a:off x="4952880" y="914400"/>
            <a:ext cx="304920" cy="304920"/>
          </a:xfrm>
          <a:custGeom>
            <a:avLst/>
            <a:gdLst/>
            <a:ahLst/>
            <a:rect l="l" t="t" r="r" b="b"/>
            <a:pathLst>
              <a:path w="304800" h="304800">
                <a:moveTo>
                  <a:pt x="0" y="304800"/>
                </a:moveTo>
                <a:lnTo>
                  <a:pt x="304800" y="304800"/>
                </a:lnTo>
                <a:lnTo>
                  <a:pt x="304800" y="0"/>
                </a:lnTo>
                <a:lnTo>
                  <a:pt x="0" y="0"/>
                </a:lnTo>
                <a:lnTo>
                  <a:pt x="0" y="304800"/>
                </a:lnTo>
                <a:close/>
              </a:path>
            </a:pathLst>
          </a:custGeom>
          <a:solidFill>
            <a:srgbClr val="00cc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56" name="object 17"/>
          <p:cNvSpPr/>
          <p:nvPr/>
        </p:nvSpPr>
        <p:spPr>
          <a:xfrm>
            <a:off x="4952880" y="1219320"/>
            <a:ext cx="304920" cy="685800"/>
          </a:xfrm>
          <a:custGeom>
            <a:avLst/>
            <a:gdLst/>
            <a:ahLst/>
            <a:rect l="l" t="t" r="r" b="b"/>
            <a:pathLst>
              <a:path w="304800" h="685800">
                <a:moveTo>
                  <a:pt x="0" y="0"/>
                </a:moveTo>
                <a:lnTo>
                  <a:pt x="304800" y="0"/>
                </a:lnTo>
                <a:lnTo>
                  <a:pt x="304800" y="685800"/>
                </a:lnTo>
                <a:lnTo>
                  <a:pt x="0" y="685800"/>
                </a:lnTo>
                <a:lnTo>
                  <a:pt x="0" y="0"/>
                </a:lnTo>
                <a:close/>
              </a:path>
            </a:pathLst>
          </a:custGeom>
          <a:solidFill>
            <a:srgbClr val="ffff6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59" name="object 4"/>
          <p:cNvSpPr/>
          <p:nvPr/>
        </p:nvSpPr>
        <p:spPr>
          <a:xfrm>
            <a:off x="1407960" y="2857680"/>
            <a:ext cx="6786720" cy="1133280"/>
          </a:xfrm>
          <a:prstGeom prst="rect">
            <a:avLst/>
          </a:prstGeom>
          <a:noFill/>
          <a:ln w="0">
            <a:noFill/>
          </a:ln>
        </p:spPr>
        <p:style>
          <a:lnRef idx="0"/>
          <a:fillRef idx="0"/>
          <a:effectRef idx="0"/>
          <a:fontRef idx="minor"/>
        </p:style>
        <p:txBody>
          <a:bodyPr lIns="0" rIns="0" tIns="0" bIns="0" anchor="t">
            <a:normAutofit/>
          </a:bodyPr>
          <a:p>
            <a:pPr marL="12600" indent="5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The minimum level of service to be attained in humanitarian assistance</a:t>
            </a:r>
            <a:endParaRPr b="0" lang="en-US" sz="3600" spc="-1" strike="noStrike">
              <a:solidFill>
                <a:srgbClr val="000000"/>
              </a:solidFill>
              <a:latin typeface="Calibri"/>
            </a:endParaRPr>
          </a:p>
        </p:txBody>
      </p:sp>
      <p:sp>
        <p:nvSpPr>
          <p:cNvPr id="360" name="object 5"/>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object 6"/>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64" name="object 4"/>
          <p:cNvSpPr/>
          <p:nvPr/>
        </p:nvSpPr>
        <p:spPr>
          <a:xfrm>
            <a:off x="1905120" y="1479600"/>
            <a:ext cx="6062400" cy="2208240"/>
          </a:xfrm>
          <a:prstGeom prst="rect">
            <a:avLst/>
          </a:prstGeom>
          <a:noFill/>
          <a:ln w="0">
            <a:noFill/>
          </a:ln>
        </p:spPr>
        <p:style>
          <a:lnRef idx="0"/>
          <a:fillRef idx="0"/>
          <a:effectRef idx="0"/>
          <a:fontRef idx="minor"/>
        </p:style>
        <p:txBody>
          <a:bodyPr lIns="0" rIns="0" tIns="0" bIns="0" anchor="t">
            <a:norm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people have safe and equitable access to a sufficient quantity of water for drinking, cooking and personal and domestic hygiene. Public water points are sufficiently close to households to enable use of the minimum water requirement.</a:t>
            </a:r>
            <a:endParaRPr b="0" lang="en-US" sz="2400" spc="-1" strike="noStrike">
              <a:solidFill>
                <a:srgbClr val="000000"/>
              </a:solidFill>
              <a:latin typeface="Calibri"/>
            </a:endParaRPr>
          </a:p>
        </p:txBody>
      </p:sp>
      <p:sp>
        <p:nvSpPr>
          <p:cNvPr id="365" name="object 5"/>
          <p:cNvSpPr/>
          <p:nvPr/>
        </p:nvSpPr>
        <p:spPr>
          <a:xfrm>
            <a:off x="1295280" y="3905280"/>
            <a:ext cx="7010640" cy="20383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object 6"/>
          <p:cNvSpPr/>
          <p:nvPr/>
        </p:nvSpPr>
        <p:spPr>
          <a:xfrm>
            <a:off x="0" y="0"/>
            <a:ext cx="7635960" cy="13874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object 7"/>
          <p:cNvSpPr/>
          <p:nvPr/>
        </p:nvSpPr>
        <p:spPr>
          <a:xfrm>
            <a:off x="7653240" y="119160"/>
            <a:ext cx="576360" cy="718920"/>
          </a:xfrm>
          <a:custGeom>
            <a:avLst/>
            <a:gdLst/>
            <a:ahLst/>
            <a:rect l="l" t="t" r="r" b="b"/>
            <a:pathLst>
              <a:path w="576262" h="719137">
                <a:moveTo>
                  <a:pt x="576262" y="0"/>
                </a:moveTo>
                <a:lnTo>
                  <a:pt x="0" y="0"/>
                </a:lnTo>
                <a:lnTo>
                  <a:pt x="0" y="719137"/>
                </a:lnTo>
                <a:lnTo>
                  <a:pt x="504228" y="719137"/>
                </a:lnTo>
                <a:lnTo>
                  <a:pt x="576262" y="647103"/>
                </a:lnTo>
                <a:lnTo>
                  <a:pt x="576262" y="0"/>
                </a:lnTo>
                <a:close/>
              </a:path>
            </a:pathLst>
          </a:custGeom>
          <a:solidFill>
            <a:srgbClr val="ffff9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68" name="object 8"/>
          <p:cNvSpPr/>
          <p:nvPr/>
        </p:nvSpPr>
        <p:spPr>
          <a:xfrm>
            <a:off x="8158320" y="766800"/>
            <a:ext cx="71280" cy="71280"/>
          </a:xfrm>
          <a:custGeom>
            <a:avLst/>
            <a:gdLst/>
            <a:ahLst/>
            <a:rect l="l" t="t" r="r" b="b"/>
            <a:pathLst>
              <a:path w="72034" h="72034">
                <a:moveTo>
                  <a:pt x="72034" y="0"/>
                </a:moveTo>
                <a:lnTo>
                  <a:pt x="14401" y="14414"/>
                </a:lnTo>
                <a:lnTo>
                  <a:pt x="0" y="72034"/>
                </a:lnTo>
                <a:lnTo>
                  <a:pt x="72034" y="0"/>
                </a:lnTo>
                <a:close/>
              </a:path>
            </a:pathLst>
          </a:custGeom>
          <a:solidFill>
            <a:srgbClr val="cdcd7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69" name="object 9"/>
          <p:cNvSpPr/>
          <p:nvPr/>
        </p:nvSpPr>
        <p:spPr>
          <a:xfrm>
            <a:off x="7653240" y="119160"/>
            <a:ext cx="576360" cy="718920"/>
          </a:xfrm>
          <a:custGeom>
            <a:avLst/>
            <a:gdLst/>
            <a:ahLst/>
            <a:rect l="l" t="t" r="r" b="b"/>
            <a:pathLst>
              <a:path w="576262" h="719137">
                <a:moveTo>
                  <a:pt x="504228" y="719137"/>
                </a:moveTo>
                <a:lnTo>
                  <a:pt x="518629" y="661517"/>
                </a:lnTo>
                <a:lnTo>
                  <a:pt x="576262" y="647103"/>
                </a:lnTo>
                <a:lnTo>
                  <a:pt x="504228" y="719137"/>
                </a:lnTo>
                <a:lnTo>
                  <a:pt x="0" y="719137"/>
                </a:lnTo>
                <a:lnTo>
                  <a:pt x="0" y="0"/>
                </a:lnTo>
                <a:lnTo>
                  <a:pt x="576262" y="0"/>
                </a:lnTo>
                <a:lnTo>
                  <a:pt x="576262" y="647103"/>
                </a:lnTo>
              </a:path>
            </a:pathLst>
          </a:custGeom>
          <a:noFill/>
          <a:ln w="12600">
            <a:solidFill>
              <a:srgbClr val="c0504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70" name="object 10"/>
          <p:cNvSpPr/>
          <p:nvPr/>
        </p:nvSpPr>
        <p:spPr>
          <a:xfrm>
            <a:off x="7693200" y="177840"/>
            <a:ext cx="498240" cy="528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ge</a:t>
            </a:r>
            <a:endParaRPr b="0" lang="en-US" sz="1600" spc="-1" strike="noStrike">
              <a:solidFill>
                <a:srgbClr val="000000"/>
              </a:solidFill>
              <a:latin typeface="Calibri"/>
            </a:endParaRPr>
          </a:p>
          <a:p>
            <a:pPr algn="ct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7</a:t>
            </a:r>
            <a:endParaRPr b="0" lang="en-US" sz="1800" spc="-1" strike="noStrike">
              <a:solidFill>
                <a:srgbClr val="000000"/>
              </a:solidFill>
              <a:latin typeface="Calibri"/>
            </a:endParaRPr>
          </a:p>
        </p:txBody>
      </p:sp>
      <p:sp>
        <p:nvSpPr>
          <p:cNvPr id="371" name="object 11"/>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74" name="object 4"/>
          <p:cNvSpPr/>
          <p:nvPr/>
        </p:nvSpPr>
        <p:spPr>
          <a:xfrm>
            <a:off x="1465200" y="2338560"/>
            <a:ext cx="6669000" cy="1382400"/>
          </a:xfrm>
          <a:prstGeom prst="rect">
            <a:avLst/>
          </a:prstGeom>
          <a:noFill/>
          <a:ln w="0">
            <a:noFill/>
          </a:ln>
        </p:spPr>
        <p:style>
          <a:lnRef idx="0"/>
          <a:fillRef idx="0"/>
          <a:effectRef idx="0"/>
          <a:fontRef idx="minor"/>
        </p:style>
        <p:txBody>
          <a:bodyPr lIns="0" rIns="0" tIns="0" bIns="0" anchor="t">
            <a:normAutofit fontScale="99000"/>
          </a:bodyPr>
          <a:p>
            <a:pPr marL="12240" indent="29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Actions to take in order to meet the minimum standard</a:t>
            </a:r>
            <a:endParaRPr b="0" lang="en-US" sz="4400" spc="-1" strike="noStrike">
              <a:solidFill>
                <a:srgbClr val="000000"/>
              </a:solidFill>
              <a:latin typeface="Calibri"/>
            </a:endParaRPr>
          </a:p>
        </p:txBody>
      </p:sp>
      <p:sp>
        <p:nvSpPr>
          <p:cNvPr id="375" name="object 5"/>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object 6"/>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79" name="object 4"/>
          <p:cNvSpPr/>
          <p:nvPr/>
        </p:nvSpPr>
        <p:spPr>
          <a:xfrm>
            <a:off x="1536840" y="1522440"/>
            <a:ext cx="4427280" cy="3049560"/>
          </a:xfrm>
          <a:prstGeom prst="rect">
            <a:avLst/>
          </a:prstGeom>
          <a:noFill/>
          <a:ln w="0">
            <a:noFill/>
          </a:ln>
        </p:spPr>
        <p:style>
          <a:lnRef idx="0"/>
          <a:fillRef idx="0"/>
          <a:effectRef idx="0"/>
          <a:fontRef idx="minor"/>
        </p:style>
        <p:txBody>
          <a:bodyPr lIns="0" rIns="0" tIns="0" bIns="0" anchor="t">
            <a:normAutofit/>
          </a:bodyPr>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appropriate water sources for the situation taking into account the quantity and environmental impact on the sources</a:t>
            </a:r>
            <a:endParaRPr b="0" lang="en-US" sz="2400" spc="-1" strike="noStrike">
              <a:solidFill>
                <a:srgbClr val="000000"/>
              </a:solidFill>
              <a:latin typeface="Calibri"/>
            </a:endParaRPr>
          </a:p>
          <a:p>
            <a:pPr marL="282600" indent="-271440">
              <a:lnSpc>
                <a:spcPts val="848"/>
              </a:lnSpc>
              <a:spcBef>
                <a:spcPts val="11"/>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ioritise and provide water to meet the requirements of the affected population</a:t>
            </a:r>
            <a:endParaRPr b="0" lang="en-US" sz="2400" spc="-1" strike="noStrike">
              <a:solidFill>
                <a:srgbClr val="000000"/>
              </a:solidFill>
              <a:latin typeface="Calibri"/>
            </a:endParaRPr>
          </a:p>
        </p:txBody>
      </p:sp>
      <p:sp>
        <p:nvSpPr>
          <p:cNvPr id="380" name="object 5"/>
          <p:cNvSpPr/>
          <p:nvPr/>
        </p:nvSpPr>
        <p:spPr>
          <a:xfrm>
            <a:off x="6095880" y="1417680"/>
            <a:ext cx="1449360" cy="45259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object 6"/>
          <p:cNvSpPr/>
          <p:nvPr/>
        </p:nvSpPr>
        <p:spPr>
          <a:xfrm>
            <a:off x="0" y="0"/>
            <a:ext cx="7635960" cy="13874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object 7"/>
          <p:cNvSpPr/>
          <p:nvPr/>
        </p:nvSpPr>
        <p:spPr>
          <a:xfrm>
            <a:off x="7696080" y="119160"/>
            <a:ext cx="576360" cy="718920"/>
          </a:xfrm>
          <a:custGeom>
            <a:avLst/>
            <a:gdLst/>
            <a:ahLst/>
            <a:rect l="l" t="t" r="r" b="b"/>
            <a:pathLst>
              <a:path w="576262" h="719137">
                <a:moveTo>
                  <a:pt x="576262" y="0"/>
                </a:moveTo>
                <a:lnTo>
                  <a:pt x="0" y="0"/>
                </a:lnTo>
                <a:lnTo>
                  <a:pt x="0" y="719137"/>
                </a:lnTo>
                <a:lnTo>
                  <a:pt x="504228" y="719137"/>
                </a:lnTo>
                <a:lnTo>
                  <a:pt x="576262" y="647103"/>
                </a:lnTo>
                <a:lnTo>
                  <a:pt x="576262" y="0"/>
                </a:lnTo>
                <a:close/>
              </a:path>
            </a:pathLst>
          </a:custGeom>
          <a:solidFill>
            <a:srgbClr val="ffff9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object 8"/>
          <p:cNvSpPr/>
          <p:nvPr/>
        </p:nvSpPr>
        <p:spPr>
          <a:xfrm>
            <a:off x="8201160" y="766800"/>
            <a:ext cx="71280" cy="71280"/>
          </a:xfrm>
          <a:custGeom>
            <a:avLst/>
            <a:gdLst/>
            <a:ahLst/>
            <a:rect l="l" t="t" r="r" b="b"/>
            <a:pathLst>
              <a:path w="72034" h="72034">
                <a:moveTo>
                  <a:pt x="72034" y="0"/>
                </a:moveTo>
                <a:lnTo>
                  <a:pt x="14401" y="14414"/>
                </a:lnTo>
                <a:lnTo>
                  <a:pt x="0" y="72034"/>
                </a:lnTo>
                <a:lnTo>
                  <a:pt x="72034" y="0"/>
                </a:lnTo>
                <a:close/>
              </a:path>
            </a:pathLst>
          </a:custGeom>
          <a:solidFill>
            <a:srgbClr val="cdcd7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object 9"/>
          <p:cNvSpPr/>
          <p:nvPr/>
        </p:nvSpPr>
        <p:spPr>
          <a:xfrm>
            <a:off x="7696080" y="119160"/>
            <a:ext cx="576360" cy="718920"/>
          </a:xfrm>
          <a:custGeom>
            <a:avLst/>
            <a:gdLst/>
            <a:ahLst/>
            <a:rect l="l" t="t" r="r" b="b"/>
            <a:pathLst>
              <a:path w="576262" h="719137">
                <a:moveTo>
                  <a:pt x="504228" y="719137"/>
                </a:moveTo>
                <a:lnTo>
                  <a:pt x="518629" y="661517"/>
                </a:lnTo>
                <a:lnTo>
                  <a:pt x="576262" y="647103"/>
                </a:lnTo>
                <a:lnTo>
                  <a:pt x="504228" y="719137"/>
                </a:lnTo>
                <a:lnTo>
                  <a:pt x="0" y="719137"/>
                </a:lnTo>
                <a:lnTo>
                  <a:pt x="0" y="0"/>
                </a:lnTo>
                <a:lnTo>
                  <a:pt x="576262" y="0"/>
                </a:lnTo>
                <a:lnTo>
                  <a:pt x="576262" y="647103"/>
                </a:lnTo>
              </a:path>
            </a:pathLst>
          </a:custGeom>
          <a:noFill/>
          <a:ln w="12600">
            <a:solidFill>
              <a:srgbClr val="c0504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object 10"/>
          <p:cNvSpPr/>
          <p:nvPr/>
        </p:nvSpPr>
        <p:spPr>
          <a:xfrm>
            <a:off x="7736040" y="177840"/>
            <a:ext cx="498240" cy="528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ge</a:t>
            </a:r>
            <a:endParaRPr b="0" lang="en-US" sz="1600" spc="-1" strike="noStrike">
              <a:solidFill>
                <a:srgbClr val="000000"/>
              </a:solidFill>
              <a:latin typeface="Calibri"/>
            </a:endParaRPr>
          </a:p>
          <a:p>
            <a:pPr algn="ct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7</a:t>
            </a:r>
            <a:endParaRPr b="0" lang="en-US" sz="1800" spc="-1" strike="noStrike">
              <a:solidFill>
                <a:srgbClr val="000000"/>
              </a:solidFill>
              <a:latin typeface="Calibri"/>
            </a:endParaRPr>
          </a:p>
        </p:txBody>
      </p:sp>
      <p:sp>
        <p:nvSpPr>
          <p:cNvPr id="386" name="object 11"/>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object 4"/>
          <p:cNvSpPr/>
          <p:nvPr/>
        </p:nvSpPr>
        <p:spPr>
          <a:xfrm>
            <a:off x="1716120" y="3083040"/>
            <a:ext cx="6165720" cy="884160"/>
          </a:xfrm>
          <a:prstGeom prst="rect">
            <a:avLst/>
          </a:prstGeom>
          <a:noFill/>
          <a:ln w="0">
            <a:noFill/>
          </a:ln>
        </p:spPr>
        <p:style>
          <a:lnRef idx="0"/>
          <a:fillRef idx="0"/>
          <a:effectRef idx="0"/>
          <a:fontRef idx="minor"/>
        </p:style>
        <p:txBody>
          <a:bodyPr lIns="0" rIns="0" tIns="0" bIns="0" anchor="t">
            <a:normAutofit/>
          </a:bodyPr>
          <a:p>
            <a:pPr marL="2009880" indent="-19972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gnals that show whether a standard has been attained.</a:t>
            </a:r>
            <a:endParaRPr b="0" lang="en-US" sz="2800" spc="-1" strike="noStrike">
              <a:solidFill>
                <a:srgbClr val="000000"/>
              </a:solidFill>
              <a:latin typeface="Calibri"/>
            </a:endParaRPr>
          </a:p>
        </p:txBody>
      </p:sp>
      <p:sp>
        <p:nvSpPr>
          <p:cNvPr id="390" name="object 6"/>
          <p:cNvSpPr/>
          <p:nvPr/>
        </p:nvSpPr>
        <p:spPr>
          <a:xfrm>
            <a:off x="1393920" y="4735440"/>
            <a:ext cx="6811920" cy="635040"/>
          </a:xfrm>
          <a:prstGeom prst="rect">
            <a:avLst/>
          </a:prstGeom>
          <a:noFill/>
          <a:ln w="0">
            <a:noFill/>
          </a:ln>
        </p:spPr>
        <p:style>
          <a:lnRef idx="0"/>
          <a:fillRef idx="0"/>
          <a:effectRef idx="0"/>
          <a:fontRef idx="minor"/>
        </p:style>
        <p:txBody>
          <a:bodyPr lIns="0" rIns="0" tIns="0" bIns="0" anchor="t">
            <a:normAutofit/>
          </a:bodyPr>
          <a:p>
            <a:pPr marL="2392200" indent="-2379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indicators may be qualitative or quantitative and may need to be put into context.</a:t>
            </a:r>
            <a:endParaRPr b="0" lang="en-US" sz="2000" spc="-1" strike="noStrike">
              <a:solidFill>
                <a:srgbClr val="000000"/>
              </a:solidFill>
              <a:latin typeface="Calibri"/>
            </a:endParaRPr>
          </a:p>
        </p:txBody>
      </p:sp>
      <p:sp>
        <p:nvSpPr>
          <p:cNvPr id="391" name="object 7"/>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bject 8"/>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object 4"/>
          <p:cNvSpPr/>
          <p:nvPr/>
        </p:nvSpPr>
        <p:spPr>
          <a:xfrm>
            <a:off x="1536840" y="1434960"/>
            <a:ext cx="4432320" cy="3891240"/>
          </a:xfrm>
          <a:prstGeom prst="rect">
            <a:avLst/>
          </a:prstGeom>
          <a:noFill/>
          <a:ln w="0">
            <a:noFill/>
          </a:ln>
        </p:spPr>
        <p:style>
          <a:lnRef idx="0"/>
          <a:fillRef idx="0"/>
          <a:effectRef idx="0"/>
          <a:fontRef idx="minor"/>
        </p:style>
        <p:txBody>
          <a:bodyPr lIns="0" rIns="0" tIns="0" bIns="0" anchor="t">
            <a:normAutofit/>
          </a:bodyPr>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verage water use for drinking, cooking and personal hygiene in any household is 15 litres per person per day</a:t>
            </a:r>
            <a:endParaRPr b="0" lang="en-US" sz="2400" spc="-1" strike="noStrike">
              <a:solidFill>
                <a:srgbClr val="000000"/>
              </a:solidFill>
              <a:latin typeface="Calibri"/>
            </a:endParaRPr>
          </a:p>
          <a:p>
            <a:pPr marL="282600" indent="-271440">
              <a:lnSpc>
                <a:spcPts val="848"/>
              </a:lnSpc>
              <a:spcBef>
                <a:spcPts val="11"/>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imum distance from any household to the nearest water point is 500 metres</a:t>
            </a:r>
            <a:endParaRPr b="0" lang="en-US" sz="2400" spc="-1" strike="noStrike">
              <a:solidFill>
                <a:srgbClr val="000000"/>
              </a:solidFill>
              <a:latin typeface="Calibri"/>
            </a:endParaRPr>
          </a:p>
          <a:p>
            <a:pPr marL="282600" indent="-271440">
              <a:lnSpc>
                <a:spcPts val="848"/>
              </a:lnSpc>
              <a:spcBef>
                <a:spcPts val="11"/>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uing time at a water source is no more than 30 minutes</a:t>
            </a:r>
            <a:endParaRPr b="0" lang="en-US" sz="2400" spc="-1" strike="noStrike">
              <a:solidFill>
                <a:srgbClr val="000000"/>
              </a:solidFill>
              <a:latin typeface="Calibri"/>
            </a:endParaRPr>
          </a:p>
        </p:txBody>
      </p:sp>
      <p:sp>
        <p:nvSpPr>
          <p:cNvPr id="396" name="object 5"/>
          <p:cNvSpPr/>
          <p:nvPr/>
        </p:nvSpPr>
        <p:spPr>
          <a:xfrm>
            <a:off x="6170760" y="1265400"/>
            <a:ext cx="1449360" cy="45259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object 6"/>
          <p:cNvSpPr/>
          <p:nvPr/>
        </p:nvSpPr>
        <p:spPr>
          <a:xfrm>
            <a:off x="0" y="0"/>
            <a:ext cx="7635960" cy="13874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object 7"/>
          <p:cNvSpPr/>
          <p:nvPr/>
        </p:nvSpPr>
        <p:spPr>
          <a:xfrm>
            <a:off x="7653240" y="119160"/>
            <a:ext cx="576360" cy="718920"/>
          </a:xfrm>
          <a:custGeom>
            <a:avLst/>
            <a:gdLst/>
            <a:ahLst/>
            <a:rect l="l" t="t" r="r" b="b"/>
            <a:pathLst>
              <a:path w="576262" h="719137">
                <a:moveTo>
                  <a:pt x="576262" y="0"/>
                </a:moveTo>
                <a:lnTo>
                  <a:pt x="0" y="0"/>
                </a:lnTo>
                <a:lnTo>
                  <a:pt x="0" y="719137"/>
                </a:lnTo>
                <a:lnTo>
                  <a:pt x="504228" y="719137"/>
                </a:lnTo>
                <a:lnTo>
                  <a:pt x="576262" y="647103"/>
                </a:lnTo>
                <a:lnTo>
                  <a:pt x="576262" y="0"/>
                </a:lnTo>
                <a:close/>
              </a:path>
            </a:pathLst>
          </a:custGeom>
          <a:solidFill>
            <a:srgbClr val="ffff9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9" name="object 8"/>
          <p:cNvSpPr/>
          <p:nvPr/>
        </p:nvSpPr>
        <p:spPr>
          <a:xfrm>
            <a:off x="8158320" y="766800"/>
            <a:ext cx="71280" cy="71280"/>
          </a:xfrm>
          <a:custGeom>
            <a:avLst/>
            <a:gdLst/>
            <a:ahLst/>
            <a:rect l="l" t="t" r="r" b="b"/>
            <a:pathLst>
              <a:path w="72034" h="72034">
                <a:moveTo>
                  <a:pt x="72034" y="0"/>
                </a:moveTo>
                <a:lnTo>
                  <a:pt x="14401" y="14414"/>
                </a:lnTo>
                <a:lnTo>
                  <a:pt x="0" y="72034"/>
                </a:lnTo>
                <a:lnTo>
                  <a:pt x="72034" y="0"/>
                </a:lnTo>
                <a:close/>
              </a:path>
            </a:pathLst>
          </a:custGeom>
          <a:solidFill>
            <a:srgbClr val="cdcd7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object 9"/>
          <p:cNvSpPr/>
          <p:nvPr/>
        </p:nvSpPr>
        <p:spPr>
          <a:xfrm>
            <a:off x="7653240" y="119160"/>
            <a:ext cx="576360" cy="718920"/>
          </a:xfrm>
          <a:custGeom>
            <a:avLst/>
            <a:gdLst/>
            <a:ahLst/>
            <a:rect l="l" t="t" r="r" b="b"/>
            <a:pathLst>
              <a:path w="576262" h="719137">
                <a:moveTo>
                  <a:pt x="504228" y="719137"/>
                </a:moveTo>
                <a:lnTo>
                  <a:pt x="518629" y="661517"/>
                </a:lnTo>
                <a:lnTo>
                  <a:pt x="576262" y="647103"/>
                </a:lnTo>
                <a:lnTo>
                  <a:pt x="504228" y="719137"/>
                </a:lnTo>
                <a:lnTo>
                  <a:pt x="0" y="719137"/>
                </a:lnTo>
                <a:lnTo>
                  <a:pt x="0" y="0"/>
                </a:lnTo>
                <a:lnTo>
                  <a:pt x="576262" y="0"/>
                </a:lnTo>
                <a:lnTo>
                  <a:pt x="576262" y="647103"/>
                </a:lnTo>
              </a:path>
            </a:pathLst>
          </a:custGeom>
          <a:noFill/>
          <a:ln w="12600">
            <a:solidFill>
              <a:srgbClr val="c0504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object 10"/>
          <p:cNvSpPr/>
          <p:nvPr/>
        </p:nvSpPr>
        <p:spPr>
          <a:xfrm>
            <a:off x="7693200" y="177840"/>
            <a:ext cx="498240" cy="528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ge</a:t>
            </a:r>
            <a:endParaRPr b="0" lang="en-US" sz="1600" spc="-1" strike="noStrike">
              <a:solidFill>
                <a:srgbClr val="000000"/>
              </a:solidFill>
              <a:latin typeface="Calibri"/>
            </a:endParaRPr>
          </a:p>
          <a:p>
            <a:pPr algn="ct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7</a:t>
            </a:r>
            <a:endParaRPr b="0" lang="en-US" sz="1800" spc="-1" strike="noStrike">
              <a:solidFill>
                <a:srgbClr val="000000"/>
              </a:solidFill>
              <a:latin typeface="Calibri"/>
            </a:endParaRPr>
          </a:p>
        </p:txBody>
      </p:sp>
      <p:sp>
        <p:nvSpPr>
          <p:cNvPr id="402" name="object 11"/>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object 4"/>
          <p:cNvSpPr/>
          <p:nvPr/>
        </p:nvSpPr>
        <p:spPr>
          <a:xfrm>
            <a:off x="1536840" y="1434960"/>
            <a:ext cx="4432320" cy="3891240"/>
          </a:xfrm>
          <a:prstGeom prst="rect">
            <a:avLst/>
          </a:prstGeom>
          <a:noFill/>
          <a:ln w="0">
            <a:noFill/>
          </a:ln>
        </p:spPr>
        <p:style>
          <a:lnRef idx="0"/>
          <a:fillRef idx="0"/>
          <a:effectRef idx="0"/>
          <a:fontRef idx="minor"/>
        </p:style>
        <p:txBody>
          <a:bodyPr lIns="0" rIns="0" tIns="0" bIns="0" anchor="t">
            <a:normAutofit/>
          </a:bodyPr>
          <a:p>
            <a:pPr marL="282600" indent="-27144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object 6"/>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object 7"/>
          <p:cNvSpPr/>
          <p:nvPr/>
        </p:nvSpPr>
        <p:spPr>
          <a:xfrm>
            <a:off x="7653240" y="119160"/>
            <a:ext cx="576360" cy="718920"/>
          </a:xfrm>
          <a:custGeom>
            <a:avLst/>
            <a:gdLst/>
            <a:ahLst/>
            <a:rect l="l" t="t" r="r" b="b"/>
            <a:pathLst>
              <a:path w="576262" h="719137">
                <a:moveTo>
                  <a:pt x="576262" y="0"/>
                </a:moveTo>
                <a:lnTo>
                  <a:pt x="0" y="0"/>
                </a:lnTo>
                <a:lnTo>
                  <a:pt x="0" y="719137"/>
                </a:lnTo>
                <a:lnTo>
                  <a:pt x="504228" y="719137"/>
                </a:lnTo>
                <a:lnTo>
                  <a:pt x="576262" y="647103"/>
                </a:lnTo>
                <a:lnTo>
                  <a:pt x="576262" y="0"/>
                </a:lnTo>
                <a:close/>
              </a:path>
            </a:pathLst>
          </a:custGeom>
          <a:solidFill>
            <a:srgbClr val="ffff9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object 8"/>
          <p:cNvSpPr/>
          <p:nvPr/>
        </p:nvSpPr>
        <p:spPr>
          <a:xfrm>
            <a:off x="8158320" y="766800"/>
            <a:ext cx="71280" cy="71280"/>
          </a:xfrm>
          <a:custGeom>
            <a:avLst/>
            <a:gdLst/>
            <a:ahLst/>
            <a:rect l="l" t="t" r="r" b="b"/>
            <a:pathLst>
              <a:path w="72034" h="72034">
                <a:moveTo>
                  <a:pt x="72034" y="0"/>
                </a:moveTo>
                <a:lnTo>
                  <a:pt x="14401" y="14414"/>
                </a:lnTo>
                <a:lnTo>
                  <a:pt x="0" y="72034"/>
                </a:lnTo>
                <a:lnTo>
                  <a:pt x="72034" y="0"/>
                </a:lnTo>
                <a:close/>
              </a:path>
            </a:pathLst>
          </a:custGeom>
          <a:solidFill>
            <a:srgbClr val="cdcd7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9" name="object 9"/>
          <p:cNvSpPr/>
          <p:nvPr/>
        </p:nvSpPr>
        <p:spPr>
          <a:xfrm>
            <a:off x="7653240" y="119160"/>
            <a:ext cx="576360" cy="718920"/>
          </a:xfrm>
          <a:custGeom>
            <a:avLst/>
            <a:gdLst/>
            <a:ahLst/>
            <a:rect l="l" t="t" r="r" b="b"/>
            <a:pathLst>
              <a:path w="576262" h="719137">
                <a:moveTo>
                  <a:pt x="504228" y="719137"/>
                </a:moveTo>
                <a:lnTo>
                  <a:pt x="518629" y="661517"/>
                </a:lnTo>
                <a:lnTo>
                  <a:pt x="576262" y="647103"/>
                </a:lnTo>
                <a:lnTo>
                  <a:pt x="504228" y="719137"/>
                </a:lnTo>
                <a:lnTo>
                  <a:pt x="0" y="719137"/>
                </a:lnTo>
                <a:lnTo>
                  <a:pt x="0" y="0"/>
                </a:lnTo>
                <a:lnTo>
                  <a:pt x="576262" y="0"/>
                </a:lnTo>
                <a:lnTo>
                  <a:pt x="576262" y="647103"/>
                </a:lnTo>
              </a:path>
            </a:pathLst>
          </a:custGeom>
          <a:noFill/>
          <a:ln w="12600">
            <a:solidFill>
              <a:srgbClr val="c0504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10" name="object 10"/>
          <p:cNvSpPr/>
          <p:nvPr/>
        </p:nvSpPr>
        <p:spPr>
          <a:xfrm>
            <a:off x="7693200" y="177840"/>
            <a:ext cx="498240" cy="528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ge</a:t>
            </a:r>
            <a:endParaRPr b="0" lang="en-US" sz="1600" spc="-1" strike="noStrike">
              <a:solidFill>
                <a:srgbClr val="000000"/>
              </a:solidFill>
              <a:latin typeface="Calibri"/>
            </a:endParaRPr>
          </a:p>
          <a:p>
            <a:pPr algn="ct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7</a:t>
            </a:r>
            <a:endParaRPr b="0" lang="en-US" sz="1800" spc="-1" strike="noStrike">
              <a:solidFill>
                <a:srgbClr val="000000"/>
              </a:solidFill>
              <a:latin typeface="Calibri"/>
            </a:endParaRPr>
          </a:p>
        </p:txBody>
      </p:sp>
      <p:sp>
        <p:nvSpPr>
          <p:cNvPr id="411" name="object 11"/>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
        <p:nvSpPr>
          <p:cNvPr id="412" name="Rectangle 11"/>
          <p:cNvSpPr/>
          <p:nvPr/>
        </p:nvSpPr>
        <p:spPr>
          <a:xfrm>
            <a:off x="1863360" y="1812960"/>
            <a:ext cx="6139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Calibri"/>
              </a:rPr>
              <a:t>Tips to help us use indicators properly i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alibri"/>
                <a:ea typeface="Calibri"/>
              </a:rPr>
              <a:t>context</a:t>
            </a:r>
            <a:endParaRPr b="0" lang="en-US" sz="2800" spc="-1" strike="noStrike">
              <a:solidFill>
                <a:srgbClr val="000000"/>
              </a:solidFill>
              <a:latin typeface="Calibri"/>
            </a:endParaRPr>
          </a:p>
        </p:txBody>
      </p:sp>
      <p:sp>
        <p:nvSpPr>
          <p:cNvPr id="413" name="Rectangle 12"/>
          <p:cNvSpPr/>
          <p:nvPr/>
        </p:nvSpPr>
        <p:spPr>
          <a:xfrm>
            <a:off x="2057400" y="30654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y include context-specific points to consider when aiming at reaching the key actions and indic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y describe dilemmas, controversies and/or gaps in current knowled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16" name="object 4"/>
          <p:cNvSpPr/>
          <p:nvPr/>
        </p:nvSpPr>
        <p:spPr>
          <a:xfrm>
            <a:off x="7653240" y="119160"/>
            <a:ext cx="576360" cy="718920"/>
          </a:xfrm>
          <a:custGeom>
            <a:avLst/>
            <a:gdLst/>
            <a:ahLst/>
            <a:rect l="l" t="t" r="r" b="b"/>
            <a:pathLst>
              <a:path w="576262" h="719137">
                <a:moveTo>
                  <a:pt x="576262" y="0"/>
                </a:moveTo>
                <a:lnTo>
                  <a:pt x="0" y="0"/>
                </a:lnTo>
                <a:lnTo>
                  <a:pt x="0" y="719137"/>
                </a:lnTo>
                <a:lnTo>
                  <a:pt x="504228" y="719137"/>
                </a:lnTo>
                <a:lnTo>
                  <a:pt x="576262" y="647103"/>
                </a:lnTo>
                <a:lnTo>
                  <a:pt x="576262" y="0"/>
                </a:lnTo>
                <a:close/>
              </a:path>
            </a:pathLst>
          </a:custGeom>
          <a:solidFill>
            <a:srgbClr val="ffff9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17" name="object 5"/>
          <p:cNvSpPr/>
          <p:nvPr/>
        </p:nvSpPr>
        <p:spPr>
          <a:xfrm>
            <a:off x="8158320" y="766800"/>
            <a:ext cx="71280" cy="71280"/>
          </a:xfrm>
          <a:custGeom>
            <a:avLst/>
            <a:gdLst/>
            <a:ahLst/>
            <a:rect l="l" t="t" r="r" b="b"/>
            <a:pathLst>
              <a:path w="72034" h="72034">
                <a:moveTo>
                  <a:pt x="72034" y="0"/>
                </a:moveTo>
                <a:lnTo>
                  <a:pt x="14401" y="14414"/>
                </a:lnTo>
                <a:lnTo>
                  <a:pt x="0" y="72034"/>
                </a:lnTo>
                <a:lnTo>
                  <a:pt x="72034" y="0"/>
                </a:lnTo>
                <a:close/>
              </a:path>
            </a:pathLst>
          </a:custGeom>
          <a:solidFill>
            <a:srgbClr val="cdcd7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18" name="object 6"/>
          <p:cNvSpPr/>
          <p:nvPr/>
        </p:nvSpPr>
        <p:spPr>
          <a:xfrm>
            <a:off x="7653240" y="119160"/>
            <a:ext cx="576360" cy="718920"/>
          </a:xfrm>
          <a:custGeom>
            <a:avLst/>
            <a:gdLst/>
            <a:ahLst/>
            <a:rect l="l" t="t" r="r" b="b"/>
            <a:pathLst>
              <a:path w="576262" h="719137">
                <a:moveTo>
                  <a:pt x="504228" y="719137"/>
                </a:moveTo>
                <a:lnTo>
                  <a:pt x="518629" y="661517"/>
                </a:lnTo>
                <a:lnTo>
                  <a:pt x="576262" y="647103"/>
                </a:lnTo>
                <a:lnTo>
                  <a:pt x="504228" y="719137"/>
                </a:lnTo>
                <a:lnTo>
                  <a:pt x="0" y="719137"/>
                </a:lnTo>
                <a:lnTo>
                  <a:pt x="0" y="0"/>
                </a:lnTo>
                <a:lnTo>
                  <a:pt x="576262" y="0"/>
                </a:lnTo>
                <a:lnTo>
                  <a:pt x="576262" y="647103"/>
                </a:lnTo>
              </a:path>
            </a:pathLst>
          </a:custGeom>
          <a:noFill/>
          <a:ln w="12600">
            <a:solidFill>
              <a:srgbClr val="c0504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19" name="object 7"/>
          <p:cNvSpPr/>
          <p:nvPr/>
        </p:nvSpPr>
        <p:spPr>
          <a:xfrm>
            <a:off x="1533600" y="177840"/>
            <a:ext cx="6769080" cy="404496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ge</a:t>
            </a:r>
            <a:endParaRPr b="0" lang="en-US" sz="1600" spc="-1" strike="noStrike">
              <a:solidFill>
                <a:srgbClr val="000000"/>
              </a:solidFill>
              <a:latin typeface="Calibri"/>
            </a:endParaRPr>
          </a:p>
          <a:p>
            <a:pPr algn="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7-</a:t>
            </a:r>
            <a:endParaRPr b="0" lang="en-US" sz="18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998"/>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sources selection</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eds</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ment</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ity/coverage</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imum numbers of people per water source</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uing time</a:t>
            </a:r>
            <a:endParaRPr b="0" lang="en-US" sz="2400" spc="-1" strike="noStrike">
              <a:solidFill>
                <a:srgbClr val="000000"/>
              </a:solidFill>
              <a:latin typeface="Calibri"/>
            </a:endParaRPr>
          </a:p>
          <a:p>
            <a:pPr>
              <a:lnSpc>
                <a:spcPts val="550"/>
              </a:lnSpc>
              <a:spcBef>
                <a:spcPts val="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 and equity</a:t>
            </a:r>
            <a:endParaRPr b="0" lang="en-US" sz="2400" spc="-1" strike="noStrike">
              <a:solidFill>
                <a:srgbClr val="000000"/>
              </a:solidFill>
              <a:latin typeface="Calibri"/>
            </a:endParaRPr>
          </a:p>
        </p:txBody>
      </p:sp>
      <p:sp>
        <p:nvSpPr>
          <p:cNvPr id="420" name="object 8"/>
          <p:cNvSpPr/>
          <p:nvPr/>
        </p:nvSpPr>
        <p:spPr>
          <a:xfrm>
            <a:off x="1370160" y="4343400"/>
            <a:ext cx="6024240" cy="212256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object 9"/>
          <p:cNvSpPr/>
          <p:nvPr/>
        </p:nvSpPr>
        <p:spPr>
          <a:xfrm>
            <a:off x="0" y="0"/>
            <a:ext cx="7635960" cy="138744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object 10"/>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24" name="PlaceHolder 2"/>
          <p:cNvSpPr>
            <a:spLocks noGrp="1"/>
          </p:cNvSpPr>
          <p:nvPr>
            <p:ph/>
          </p:nvPr>
        </p:nvSpPr>
        <p:spPr>
          <a:xfrm>
            <a:off x="1011240" y="1811160"/>
            <a:ext cx="7121520" cy="3173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Calibri"/>
            </a:endParaRPr>
          </a:p>
        </p:txBody>
      </p:sp>
      <p:pic>
        <p:nvPicPr>
          <p:cNvPr id="425" name="Picture 3" descr=""/>
          <p:cNvPicPr/>
          <p:nvPr/>
        </p:nvPicPr>
        <p:blipFill>
          <a:blip r:embed="rId1"/>
          <a:stretch/>
        </p:blipFill>
        <p:spPr>
          <a:xfrm>
            <a:off x="135000" y="380880"/>
            <a:ext cx="8551800" cy="633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object 2"/>
          <p:cNvSpPr/>
          <p:nvPr/>
        </p:nvSpPr>
        <p:spPr>
          <a:xfrm>
            <a:off x="0" y="0"/>
            <a:ext cx="3538440" cy="68515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object 3"/>
          <p:cNvSpPr/>
          <p:nvPr/>
        </p:nvSpPr>
        <p:spPr>
          <a:xfrm>
            <a:off x="7765920" y="0"/>
            <a:ext cx="1301760" cy="8380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object 4"/>
          <p:cNvSpPr/>
          <p:nvPr/>
        </p:nvSpPr>
        <p:spPr>
          <a:xfrm>
            <a:off x="2359080" y="76320"/>
            <a:ext cx="5261040" cy="6858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object 5"/>
          <p:cNvSpPr/>
          <p:nvPr/>
        </p:nvSpPr>
        <p:spPr>
          <a:xfrm>
            <a:off x="3921120" y="1724040"/>
            <a:ext cx="4195800" cy="2778120"/>
          </a:xfrm>
          <a:prstGeom prst="rect">
            <a:avLst/>
          </a:prstGeom>
          <a:noFill/>
          <a:ln w="0">
            <a:noFill/>
          </a:ln>
        </p:spPr>
        <p:style>
          <a:lnRef idx="0"/>
          <a:fillRef idx="0"/>
          <a:effectRef idx="0"/>
          <a:fontRef idx="minor"/>
        </p:style>
        <p:txBody>
          <a:bodyPr lIns="0" rIns="0" tIns="0" bIns="0" anchor="t">
            <a:normAutofit/>
          </a:bodyPr>
          <a:p>
            <a:pPr marL="12600" indent="103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933c"/>
                </a:solidFill>
                <a:latin typeface="Calibri"/>
                <a:ea typeface="Calibri"/>
              </a:rPr>
              <a:t>Orientation on Protection Principles, Code of Conduct &amp; its mainstreaming within organization</a:t>
            </a:r>
            <a:endParaRPr b="0" lang="en-US" sz="3600" spc="-1" strike="noStrike">
              <a:solidFill>
                <a:srgbClr val="000000"/>
              </a:solidFill>
              <a:latin typeface="Calibri"/>
            </a:endParaRPr>
          </a:p>
        </p:txBody>
      </p:sp>
      <p:sp>
        <p:nvSpPr>
          <p:cNvPr id="289" name="object 6"/>
          <p:cNvSpPr/>
          <p:nvPr/>
        </p:nvSpPr>
        <p:spPr>
          <a:xfrm>
            <a:off x="4716360" y="5146560"/>
            <a:ext cx="2681280" cy="906480"/>
          </a:xfrm>
          <a:prstGeom prst="rect">
            <a:avLst/>
          </a:prstGeom>
          <a:noFill/>
          <a:ln w="0">
            <a:noFill/>
          </a:ln>
        </p:spPr>
        <p:style>
          <a:lnRef idx="0"/>
          <a:fillRef idx="0"/>
          <a:effectRef idx="0"/>
          <a:fontRef idx="minor"/>
        </p:style>
        <p:txBody>
          <a:bodyPr lIns="0" rIns="0" tIns="0" bIns="0" anchor="t">
            <a:normAutofit fontScale="97000"/>
          </a:bodyPr>
          <a:p>
            <a:pPr marL="270720" indent="-258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8a8a"/>
                </a:solidFill>
                <a:latin typeface="Calibri"/>
                <a:ea typeface="Calibri"/>
              </a:rPr>
              <a:t>Tacloban, Philippines January 22, 20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object 2"/>
          <p:cNvSpPr/>
          <p:nvPr/>
        </p:nvSpPr>
        <p:spPr>
          <a:xfrm>
            <a:off x="0" y="0"/>
            <a:ext cx="3538440" cy="685152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object 3"/>
          <p:cNvSpPr/>
          <p:nvPr/>
        </p:nvSpPr>
        <p:spPr>
          <a:xfrm>
            <a:off x="7765920" y="0"/>
            <a:ext cx="1301760" cy="83808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object 4"/>
          <p:cNvSpPr/>
          <p:nvPr/>
        </p:nvSpPr>
        <p:spPr>
          <a:xfrm>
            <a:off x="2359080" y="76320"/>
            <a:ext cx="5261040" cy="68580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object 5"/>
          <p:cNvSpPr/>
          <p:nvPr/>
        </p:nvSpPr>
        <p:spPr>
          <a:xfrm>
            <a:off x="5175360" y="2386080"/>
            <a:ext cx="2590560" cy="3176640"/>
          </a:xfrm>
          <a:prstGeom prst="rect">
            <a:avLst/>
          </a:prstGeom>
          <a:noFill/>
          <a:ln w="0">
            <a:noFill/>
          </a:ln>
        </p:spPr>
        <p:style>
          <a:lnRef idx="0"/>
          <a:fillRef idx="0"/>
          <a:effectRef idx="0"/>
          <a:fontRef idx="minor"/>
        </p:style>
        <p:txBody>
          <a:bodyPr lIns="0" rIns="0" tIns="0" bIns="0" anchor="t">
            <a:normAutofit/>
          </a:bodyPr>
          <a:p>
            <a:pPr marL="90360" indent="-56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933c"/>
                </a:solidFill>
                <a:latin typeface="Calibri"/>
                <a:ea typeface="Calibri"/>
              </a:rPr>
              <a:t>Module 2: Principles</a:t>
            </a:r>
            <a:endParaRPr b="0" lang="en-US" sz="4000" spc="-1" strike="noStrike">
              <a:solidFill>
                <a:srgbClr val="000000"/>
              </a:solidFill>
              <a:latin typeface="Calibri"/>
            </a:endParaRPr>
          </a:p>
          <a:p>
            <a:pPr marL="90360" indent="-56880">
              <a:lnSpc>
                <a:spcPts val="748"/>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90360" indent="-5688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90360" indent="-5688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90360" indent="-5688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90360" indent="-5688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90360" indent="-56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933c"/>
                </a:solidFill>
                <a:latin typeface="Calibri"/>
                <a:ea typeface="Calibri"/>
              </a:rPr>
              <a:t>Protection Principles</a:t>
            </a:r>
            <a:endParaRPr b="0" lang="en-US" sz="4000" spc="-1" strike="noStrike">
              <a:solidFill>
                <a:srgbClr val="000000"/>
              </a:solidFill>
              <a:latin typeface="Calibri"/>
            </a:endParaRPr>
          </a:p>
        </p:txBody>
      </p:sp>
      <p:sp>
        <p:nvSpPr>
          <p:cNvPr id="430" name="object 6"/>
          <p:cNvSpPr/>
          <p:nvPr/>
        </p:nvSpPr>
        <p:spPr>
          <a:xfrm>
            <a:off x="411120" y="1139760"/>
            <a:ext cx="4249800" cy="424980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object 2"/>
          <p:cNvSpPr/>
          <p:nvPr/>
        </p:nvSpPr>
        <p:spPr>
          <a:xfrm>
            <a:off x="1374840" y="1541520"/>
            <a:ext cx="6400800" cy="2228760"/>
          </a:xfrm>
          <a:prstGeom prst="rect">
            <a:avLst/>
          </a:prstGeom>
          <a:noFill/>
          <a:ln w="0">
            <a:noFill/>
          </a:ln>
        </p:spPr>
        <p:style>
          <a:lnRef idx="0"/>
          <a:fillRef idx="0"/>
          <a:effectRef idx="0"/>
          <a:fontRef idx="minor"/>
        </p:style>
        <p:txBody>
          <a:bodyPr lIns="0" rIns="0" tIns="0" bIns="0" anchor="t">
            <a:norm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Protection is concerned with the safety, dignity and rights of people affected by disaster or armed conflict.”</a:t>
            </a:r>
            <a:endParaRPr b="0" lang="en-US" sz="3600" spc="-1" strike="noStrike">
              <a:solidFill>
                <a:srgbClr val="000000"/>
              </a:solidFill>
              <a:latin typeface="Calibri"/>
            </a:endParaRPr>
          </a:p>
        </p:txBody>
      </p:sp>
      <p:sp>
        <p:nvSpPr>
          <p:cNvPr id="432" name="object 4"/>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
        <p:nvSpPr>
          <p:cNvPr id="433" name="object 3"/>
          <p:cNvSpPr/>
          <p:nvPr/>
        </p:nvSpPr>
        <p:spPr>
          <a:xfrm>
            <a:off x="4991040" y="4476600"/>
            <a:ext cx="3235320" cy="39384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Page 29 Sphere handbo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object 2"/>
          <p:cNvSpPr/>
          <p:nvPr/>
        </p:nvSpPr>
        <p:spPr>
          <a:xfrm>
            <a:off x="0" y="1000080"/>
            <a:ext cx="1238400" cy="5599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object 3"/>
          <p:cNvSpPr/>
          <p:nvPr/>
        </p:nvSpPr>
        <p:spPr>
          <a:xfrm>
            <a:off x="8245440" y="1752480"/>
            <a:ext cx="898560" cy="89856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object 4"/>
          <p:cNvSpPr/>
          <p:nvPr/>
        </p:nvSpPr>
        <p:spPr>
          <a:xfrm>
            <a:off x="8245440" y="259092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object 5"/>
          <p:cNvSpPr/>
          <p:nvPr/>
        </p:nvSpPr>
        <p:spPr>
          <a:xfrm>
            <a:off x="8245440" y="342900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object 6"/>
          <p:cNvSpPr/>
          <p:nvPr/>
        </p:nvSpPr>
        <p:spPr>
          <a:xfrm>
            <a:off x="8245440" y="425304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object 7"/>
          <p:cNvSpPr/>
          <p:nvPr/>
        </p:nvSpPr>
        <p:spPr>
          <a:xfrm>
            <a:off x="8245440" y="510372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object 8"/>
          <p:cNvSpPr/>
          <p:nvPr/>
        </p:nvSpPr>
        <p:spPr>
          <a:xfrm>
            <a:off x="8245440" y="0"/>
            <a:ext cx="898560" cy="18129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object 9"/>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42" name="object 10"/>
          <p:cNvSpPr/>
          <p:nvPr/>
        </p:nvSpPr>
        <p:spPr>
          <a:xfrm>
            <a:off x="512640" y="588960"/>
            <a:ext cx="5510160" cy="111744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marL="625320" indent="-342720">
              <a:lnSpc>
                <a:spcPts val="3461"/>
              </a:lnSpc>
              <a:buClr>
                <a:srgbClr val="003d76"/>
              </a:buClr>
              <a:buSzPct val="109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d76"/>
                </a:solidFill>
                <a:latin typeface="Calibri"/>
                <a:ea typeface="Calibri"/>
              </a:rPr>
              <a:t>Safety and Security </a:t>
            </a:r>
            <a:r>
              <a:rPr b="0" lang="en-US" sz="3200" spc="-1" strike="noStrike">
                <a:solidFill>
                  <a:srgbClr val="000000"/>
                </a:solidFill>
                <a:latin typeface="Calibri"/>
                <a:ea typeface="Calibri"/>
              </a:rPr>
              <a:t>(keeping people safe, focusing on action, advocacy and assistance)</a:t>
            </a:r>
            <a:endParaRPr b="0" lang="en-US" sz="3200" spc="-1" strike="noStrike">
              <a:solidFill>
                <a:srgbClr val="000000"/>
              </a:solidFill>
              <a:latin typeface="Calibri"/>
            </a:endParaRPr>
          </a:p>
        </p:txBody>
      </p:sp>
      <p:sp>
        <p:nvSpPr>
          <p:cNvPr id="444" name="object 12"/>
          <p:cNvSpPr/>
          <p:nvPr/>
        </p:nvSpPr>
        <p:spPr>
          <a:xfrm>
            <a:off x="1374840" y="3111480"/>
            <a:ext cx="6095880" cy="2209680"/>
          </a:xfrm>
          <a:prstGeom prst="rect">
            <a:avLst/>
          </a:prstGeom>
          <a:noFill/>
          <a:ln w="0">
            <a:noFill/>
          </a:ln>
        </p:spPr>
        <p:style>
          <a:lnRef idx="0"/>
          <a:fillRef idx="0"/>
          <a:effectRef idx="0"/>
          <a:fontRef idx="minor"/>
        </p:style>
        <p:txBody>
          <a:bodyPr lIns="0" rIns="0" tIns="0" bIns="0" anchor="t">
            <a:normAutofit fontScale="99000"/>
          </a:bodyPr>
          <a:p>
            <a:pPr marL="350280" indent="-339120">
              <a:lnSpc>
                <a:spcPts val="3461"/>
              </a:lnSpc>
              <a:buClr>
                <a:srgbClr val="003d76"/>
              </a:buClr>
              <a:buSzPct val="109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d76"/>
                </a:solidFill>
                <a:latin typeface="Calibri"/>
                <a:ea typeface="Calibri"/>
              </a:rPr>
              <a:t>Dignity </a:t>
            </a:r>
            <a:r>
              <a:rPr b="0" lang="en-US" sz="3200" spc="-1" strike="noStrike">
                <a:solidFill>
                  <a:srgbClr val="000000"/>
                </a:solidFill>
                <a:latin typeface="Calibri"/>
                <a:ea typeface="Calibri"/>
              </a:rPr>
              <a:t>(choices and freedom to realise rights, self-worth and autonomy, recognition of whole person with physical, psychosocial, social, and cultural considerations)</a:t>
            </a:r>
            <a:endParaRPr b="0" lang="en-US" sz="3200" spc="-1" strike="noStrike">
              <a:solidFill>
                <a:srgbClr val="000000"/>
              </a:solidFill>
              <a:latin typeface="Calibri"/>
            </a:endParaRPr>
          </a:p>
        </p:txBody>
      </p:sp>
      <p:sp>
        <p:nvSpPr>
          <p:cNvPr id="445" name="object 14"/>
          <p:cNvSpPr/>
          <p:nvPr/>
        </p:nvSpPr>
        <p:spPr>
          <a:xfrm>
            <a:off x="5943600" y="685800"/>
            <a:ext cx="3200400" cy="86364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object 15"/>
          <p:cNvSpPr/>
          <p:nvPr/>
        </p:nvSpPr>
        <p:spPr>
          <a:xfrm>
            <a:off x="442800" y="1806480"/>
            <a:ext cx="979560" cy="97956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bject 16"/>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8" name="object 2"/>
          <p:cNvSpPr/>
          <p:nvPr/>
        </p:nvSpPr>
        <p:spPr>
          <a:xfrm>
            <a:off x="0" y="1000080"/>
            <a:ext cx="1143000" cy="5599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bject 3"/>
          <p:cNvSpPr/>
          <p:nvPr/>
        </p:nvSpPr>
        <p:spPr>
          <a:xfrm>
            <a:off x="341280" y="6060960"/>
            <a:ext cx="1297080" cy="559080"/>
          </a:xfrm>
          <a:prstGeom prst="rect">
            <a:avLst/>
          </a:prstGeom>
          <a:noFill/>
          <a:ln w="0">
            <a:noFill/>
          </a:ln>
        </p:spPr>
        <p:style>
          <a:lnRef idx="0"/>
          <a:fillRef idx="0"/>
          <a:effectRef idx="0"/>
          <a:fontRef idx="minor"/>
        </p:style>
        <p:txBody>
          <a:bodyPr lIns="0" rIns="0" tIns="0" bIns="0" anchor="t">
            <a:normAutofit/>
          </a:bodyPr>
          <a:p>
            <a:pPr marL="126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Right to life with dignity</a:t>
            </a:r>
            <a:endParaRPr b="0" lang="en-US" sz="1800" spc="-1" strike="noStrike">
              <a:solidFill>
                <a:srgbClr val="000000"/>
              </a:solidFill>
              <a:latin typeface="Calibri"/>
            </a:endParaRPr>
          </a:p>
        </p:txBody>
      </p:sp>
      <p:sp>
        <p:nvSpPr>
          <p:cNvPr id="450" name="object 4"/>
          <p:cNvSpPr/>
          <p:nvPr/>
        </p:nvSpPr>
        <p:spPr>
          <a:xfrm>
            <a:off x="1143000" y="1125360"/>
            <a:ext cx="360" cy="4480200"/>
          </a:xfrm>
          <a:custGeom>
            <a:avLst/>
            <a:gdLst/>
            <a:ahLst/>
            <a:rect l="l" t="t" r="r" b="b"/>
            <a:pathLst>
              <a:path w="0" h="4480711">
                <a:moveTo>
                  <a:pt x="0" y="0"/>
                </a:moveTo>
                <a:lnTo>
                  <a:pt x="0" y="4480711"/>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1" name="object 5"/>
          <p:cNvSpPr/>
          <p:nvPr/>
        </p:nvSpPr>
        <p:spPr>
          <a:xfrm>
            <a:off x="1143000" y="6018120"/>
            <a:ext cx="360" cy="76320"/>
          </a:xfrm>
          <a:custGeom>
            <a:avLst/>
            <a:gdLst/>
            <a:ahLst/>
            <a:rect l="l" t="t" r="r" b="b"/>
            <a:pathLst>
              <a:path w="0" h="76848">
                <a:moveTo>
                  <a:pt x="0" y="0"/>
                </a:moveTo>
                <a:lnTo>
                  <a:pt x="0" y="76848"/>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2" name="object 6"/>
          <p:cNvSpPr/>
          <p:nvPr/>
        </p:nvSpPr>
        <p:spPr>
          <a:xfrm>
            <a:off x="4565520" y="1782720"/>
            <a:ext cx="3067200" cy="1568520"/>
          </a:xfrm>
          <a:custGeom>
            <a:avLst/>
            <a:gdLst/>
            <a:ahLst/>
            <a:rect l="l" t="t" r="r" b="b"/>
            <a:pathLst>
              <a:path w="3066872" h="1568424">
                <a:moveTo>
                  <a:pt x="0" y="0"/>
                </a:moveTo>
                <a:lnTo>
                  <a:pt x="0" y="1389418"/>
                </a:lnTo>
                <a:lnTo>
                  <a:pt x="3066872" y="1389418"/>
                </a:lnTo>
                <a:lnTo>
                  <a:pt x="3066872" y="1568424"/>
                </a:lnTo>
              </a:path>
            </a:pathLst>
          </a:custGeom>
          <a:noFill/>
          <a:ln w="12600">
            <a:solidFill>
              <a:srgbClr val="3d6696"/>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3" name="object 7"/>
          <p:cNvSpPr/>
          <p:nvPr/>
        </p:nvSpPr>
        <p:spPr>
          <a:xfrm>
            <a:off x="4565520" y="1782720"/>
            <a:ext cx="957240" cy="1568520"/>
          </a:xfrm>
          <a:custGeom>
            <a:avLst/>
            <a:gdLst/>
            <a:ahLst/>
            <a:rect l="l" t="t" r="r" b="b"/>
            <a:pathLst>
              <a:path w="957300" h="1568424">
                <a:moveTo>
                  <a:pt x="0" y="0"/>
                </a:moveTo>
                <a:lnTo>
                  <a:pt x="0" y="1389418"/>
                </a:lnTo>
                <a:lnTo>
                  <a:pt x="957300" y="1389418"/>
                </a:lnTo>
                <a:lnTo>
                  <a:pt x="957300" y="1568424"/>
                </a:lnTo>
              </a:path>
            </a:pathLst>
          </a:custGeom>
          <a:noFill/>
          <a:ln w="12600">
            <a:solidFill>
              <a:srgbClr val="3d6696"/>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4" name="object 8"/>
          <p:cNvSpPr/>
          <p:nvPr/>
        </p:nvSpPr>
        <p:spPr>
          <a:xfrm>
            <a:off x="3375000" y="1782720"/>
            <a:ext cx="1190520" cy="1568520"/>
          </a:xfrm>
          <a:custGeom>
            <a:avLst/>
            <a:gdLst/>
            <a:ahLst/>
            <a:rect l="l" t="t" r="r" b="b"/>
            <a:pathLst>
              <a:path w="1191145" h="1568424">
                <a:moveTo>
                  <a:pt x="1191145" y="0"/>
                </a:moveTo>
                <a:lnTo>
                  <a:pt x="1191145" y="1389418"/>
                </a:lnTo>
                <a:lnTo>
                  <a:pt x="0" y="1389418"/>
                </a:lnTo>
                <a:lnTo>
                  <a:pt x="0" y="1568424"/>
                </a:lnTo>
              </a:path>
            </a:pathLst>
          </a:custGeom>
          <a:noFill/>
          <a:ln w="12600">
            <a:solidFill>
              <a:srgbClr val="3d6696"/>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5" name="object 9"/>
          <p:cNvSpPr/>
          <p:nvPr/>
        </p:nvSpPr>
        <p:spPr>
          <a:xfrm>
            <a:off x="1276200" y="1782720"/>
            <a:ext cx="3289320" cy="1568520"/>
          </a:xfrm>
          <a:custGeom>
            <a:avLst/>
            <a:gdLst/>
            <a:ahLst/>
            <a:rect l="l" t="t" r="r" b="b"/>
            <a:pathLst>
              <a:path w="3289604" h="1568424">
                <a:moveTo>
                  <a:pt x="3289604" y="0"/>
                </a:moveTo>
                <a:lnTo>
                  <a:pt x="3289604" y="1389418"/>
                </a:lnTo>
                <a:lnTo>
                  <a:pt x="0" y="1389418"/>
                </a:lnTo>
                <a:lnTo>
                  <a:pt x="0" y="1568424"/>
                </a:lnTo>
              </a:path>
            </a:pathLst>
          </a:custGeom>
          <a:noFill/>
          <a:ln w="12600">
            <a:solidFill>
              <a:srgbClr val="3d6696"/>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56" name="object 10"/>
          <p:cNvSpPr/>
          <p:nvPr/>
        </p:nvSpPr>
        <p:spPr>
          <a:xfrm>
            <a:off x="3355920" y="627120"/>
            <a:ext cx="2419560" cy="122076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bject 11"/>
          <p:cNvSpPr/>
          <p:nvPr/>
        </p:nvSpPr>
        <p:spPr>
          <a:xfrm>
            <a:off x="3317760" y="608040"/>
            <a:ext cx="2576520" cy="101772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bject 12"/>
          <p:cNvSpPr/>
          <p:nvPr/>
        </p:nvSpPr>
        <p:spPr>
          <a:xfrm>
            <a:off x="3398760" y="646200"/>
            <a:ext cx="2335320" cy="113652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bject 13"/>
          <p:cNvSpPr/>
          <p:nvPr/>
        </p:nvSpPr>
        <p:spPr>
          <a:xfrm>
            <a:off x="3567240" y="762120"/>
            <a:ext cx="2000160" cy="803160"/>
          </a:xfrm>
          <a:prstGeom prst="rect">
            <a:avLst/>
          </a:prstGeom>
          <a:noFill/>
          <a:ln w="0">
            <a:noFill/>
          </a:ln>
        </p:spPr>
        <p:style>
          <a:lnRef idx="0"/>
          <a:fillRef idx="0"/>
          <a:effectRef idx="0"/>
          <a:fontRef idx="minor"/>
        </p:style>
        <p:txBody>
          <a:bodyPr lIns="0" rIns="0" tIns="0" bIns="0" anchor="t">
            <a:normAutofit/>
          </a:bodyPr>
          <a:p>
            <a:pPr marL="455760" indent="-443160">
              <a:lnSpc>
                <a:spcPts val="30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Humanitarian Charter</a:t>
            </a:r>
            <a:endParaRPr b="0" lang="en-US" sz="2800" spc="-1" strike="noStrike">
              <a:solidFill>
                <a:srgbClr val="000000"/>
              </a:solidFill>
              <a:latin typeface="Calibri"/>
            </a:endParaRPr>
          </a:p>
        </p:txBody>
      </p:sp>
      <p:sp>
        <p:nvSpPr>
          <p:cNvPr id="460" name="object 14"/>
          <p:cNvSpPr/>
          <p:nvPr/>
        </p:nvSpPr>
        <p:spPr>
          <a:xfrm>
            <a:off x="7180200" y="1819440"/>
            <a:ext cx="1333440" cy="255600"/>
          </a:xfrm>
          <a:custGeom>
            <a:avLst/>
            <a:gdLst/>
            <a:ahLst/>
            <a:rect l="l" t="t" r="r" b="b"/>
            <a:pathLst>
              <a:path w="1333538" h="255714">
                <a:moveTo>
                  <a:pt x="0" y="0"/>
                </a:moveTo>
                <a:lnTo>
                  <a:pt x="1333538" y="0"/>
                </a:lnTo>
                <a:lnTo>
                  <a:pt x="1333538" y="255714"/>
                </a:lnTo>
                <a:lnTo>
                  <a:pt x="0" y="255714"/>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61" name="object 15"/>
          <p:cNvSpPr/>
          <p:nvPr/>
        </p:nvSpPr>
        <p:spPr>
          <a:xfrm>
            <a:off x="473040" y="3330720"/>
            <a:ext cx="1603440" cy="23637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bject 16"/>
          <p:cNvSpPr/>
          <p:nvPr/>
        </p:nvSpPr>
        <p:spPr>
          <a:xfrm>
            <a:off x="372960" y="3753000"/>
            <a:ext cx="1859040" cy="131256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bject 17"/>
          <p:cNvSpPr/>
          <p:nvPr/>
        </p:nvSpPr>
        <p:spPr>
          <a:xfrm>
            <a:off x="517680" y="3351240"/>
            <a:ext cx="1517400" cy="227808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object 18"/>
          <p:cNvSpPr/>
          <p:nvPr/>
        </p:nvSpPr>
        <p:spPr>
          <a:xfrm>
            <a:off x="558720" y="3865680"/>
            <a:ext cx="1435320" cy="1144440"/>
          </a:xfrm>
          <a:prstGeom prst="rect">
            <a:avLst/>
          </a:prstGeom>
          <a:noFill/>
          <a:ln w="0">
            <a:noFill/>
          </a:ln>
        </p:spPr>
        <p:style>
          <a:lnRef idx="0"/>
          <a:fillRef idx="0"/>
          <a:effectRef idx="0"/>
          <a:fontRef idx="minor"/>
        </p:style>
        <p:txBody>
          <a:bodyPr lIns="0" rIns="0" tIns="0" bIns="0" anchor="t">
            <a:normAutofit/>
          </a:bodyPr>
          <a:p>
            <a:pPr marL="12600"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void causing further harm as a result of your actions</a:t>
            </a:r>
            <a:endParaRPr b="0" lang="en-US" sz="2000" spc="-1" strike="noStrike">
              <a:solidFill>
                <a:srgbClr val="000000"/>
              </a:solidFill>
              <a:latin typeface="Calibri"/>
            </a:endParaRPr>
          </a:p>
        </p:txBody>
      </p:sp>
      <p:sp>
        <p:nvSpPr>
          <p:cNvPr id="465" name="object 19"/>
          <p:cNvSpPr/>
          <p:nvPr/>
        </p:nvSpPr>
        <p:spPr>
          <a:xfrm>
            <a:off x="563400" y="5605560"/>
            <a:ext cx="1554480" cy="412560"/>
          </a:xfrm>
          <a:custGeom>
            <a:avLst/>
            <a:gdLst/>
            <a:ahLst/>
            <a:rect l="l" t="t" r="r" b="b"/>
            <a:pathLst>
              <a:path w="1554670" h="411314">
                <a:moveTo>
                  <a:pt x="0" y="0"/>
                </a:moveTo>
                <a:lnTo>
                  <a:pt x="1554670" y="0"/>
                </a:lnTo>
                <a:lnTo>
                  <a:pt x="1554670" y="411314"/>
                </a:lnTo>
                <a:lnTo>
                  <a:pt x="0" y="411314"/>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66" name="object 20"/>
          <p:cNvSpPr/>
          <p:nvPr/>
        </p:nvSpPr>
        <p:spPr>
          <a:xfrm>
            <a:off x="692280" y="5583240"/>
            <a:ext cx="1374480" cy="40968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Principle 1</a:t>
            </a:r>
            <a:endParaRPr b="0" lang="en-US" sz="2500" spc="-1" strike="noStrike">
              <a:solidFill>
                <a:srgbClr val="000000"/>
              </a:solidFill>
              <a:latin typeface="Calibri"/>
            </a:endParaRPr>
          </a:p>
        </p:txBody>
      </p:sp>
      <p:sp>
        <p:nvSpPr>
          <p:cNvPr id="467" name="object 21"/>
          <p:cNvSpPr/>
          <p:nvPr/>
        </p:nvSpPr>
        <p:spPr>
          <a:xfrm>
            <a:off x="2589120" y="3332160"/>
            <a:ext cx="1567080" cy="241632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object 22"/>
          <p:cNvSpPr/>
          <p:nvPr/>
        </p:nvSpPr>
        <p:spPr>
          <a:xfrm>
            <a:off x="2651040" y="3641760"/>
            <a:ext cx="1443240" cy="159228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object 23"/>
          <p:cNvSpPr/>
          <p:nvPr/>
        </p:nvSpPr>
        <p:spPr>
          <a:xfrm>
            <a:off x="2633760" y="3351240"/>
            <a:ext cx="1482480" cy="233208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object 24"/>
          <p:cNvSpPr/>
          <p:nvPr/>
        </p:nvSpPr>
        <p:spPr>
          <a:xfrm>
            <a:off x="2838600" y="3753000"/>
            <a:ext cx="1071360" cy="1422360"/>
          </a:xfrm>
          <a:prstGeom prst="rect">
            <a:avLst/>
          </a:prstGeom>
          <a:noFill/>
          <a:ln w="0">
            <a:noFill/>
          </a:ln>
        </p:spPr>
        <p:style>
          <a:lnRef idx="0"/>
          <a:fillRef idx="0"/>
          <a:effectRef idx="0"/>
          <a:fontRef idx="minor"/>
        </p:style>
        <p:txBody>
          <a:bodyPr lIns="0" rIns="0" tIns="0" bIns="0" anchor="t">
            <a:normAutofit/>
          </a:bodyPr>
          <a:p>
            <a:pPr marL="12600"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Ensure people’s access to impartial assistance</a:t>
            </a:r>
            <a:endParaRPr b="0" lang="en-US" sz="2000" spc="-1" strike="noStrike">
              <a:solidFill>
                <a:srgbClr val="000000"/>
              </a:solidFill>
              <a:latin typeface="Calibri"/>
            </a:endParaRPr>
          </a:p>
        </p:txBody>
      </p:sp>
      <p:sp>
        <p:nvSpPr>
          <p:cNvPr id="471" name="object 25"/>
          <p:cNvSpPr/>
          <p:nvPr/>
        </p:nvSpPr>
        <p:spPr>
          <a:xfrm>
            <a:off x="2639880" y="5554800"/>
            <a:ext cx="1524240" cy="514080"/>
          </a:xfrm>
          <a:custGeom>
            <a:avLst/>
            <a:gdLst/>
            <a:ahLst/>
            <a:rect l="l" t="t" r="r" b="b"/>
            <a:pathLst>
              <a:path w="1522996" h="514819">
                <a:moveTo>
                  <a:pt x="0" y="0"/>
                </a:moveTo>
                <a:lnTo>
                  <a:pt x="1522996" y="0"/>
                </a:lnTo>
                <a:lnTo>
                  <a:pt x="1522996" y="514819"/>
                </a:lnTo>
                <a:lnTo>
                  <a:pt x="0" y="514819"/>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72" name="object 26"/>
          <p:cNvSpPr/>
          <p:nvPr/>
        </p:nvSpPr>
        <p:spPr>
          <a:xfrm>
            <a:off x="2738520" y="5583240"/>
            <a:ext cx="1374840" cy="40968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Principle 2</a:t>
            </a:r>
            <a:endParaRPr b="0" lang="en-US" sz="2500" spc="-1" strike="noStrike">
              <a:solidFill>
                <a:srgbClr val="000000"/>
              </a:solidFill>
              <a:latin typeface="Calibri"/>
            </a:endParaRPr>
          </a:p>
        </p:txBody>
      </p:sp>
      <p:sp>
        <p:nvSpPr>
          <p:cNvPr id="473" name="object 27"/>
          <p:cNvSpPr/>
          <p:nvPr/>
        </p:nvSpPr>
        <p:spPr>
          <a:xfrm>
            <a:off x="4672080" y="3330720"/>
            <a:ext cx="1698480" cy="227808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object 28"/>
          <p:cNvSpPr/>
          <p:nvPr/>
        </p:nvSpPr>
        <p:spPr>
          <a:xfrm>
            <a:off x="4564080" y="3294000"/>
            <a:ext cx="1971720" cy="214812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bject 29"/>
          <p:cNvSpPr/>
          <p:nvPr/>
        </p:nvSpPr>
        <p:spPr>
          <a:xfrm>
            <a:off x="4716360" y="3351240"/>
            <a:ext cx="1613160" cy="219384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bject 30"/>
          <p:cNvSpPr/>
          <p:nvPr/>
        </p:nvSpPr>
        <p:spPr>
          <a:xfrm>
            <a:off x="4749840" y="3405240"/>
            <a:ext cx="1544760" cy="1979640"/>
          </a:xfrm>
          <a:prstGeom prst="rect">
            <a:avLst/>
          </a:prstGeom>
          <a:noFill/>
          <a:ln w="0">
            <a:noFill/>
          </a:ln>
        </p:spPr>
        <p:style>
          <a:lnRef idx="0"/>
          <a:fillRef idx="0"/>
          <a:effectRef idx="0"/>
          <a:fontRef idx="minor"/>
        </p:style>
        <p:txBody>
          <a:bodyPr lIns="0" rIns="0" tIns="0" bIns="0" anchor="t">
            <a:normAutofit/>
          </a:bodyPr>
          <a:p>
            <a:pPr marL="12600"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Protect people from physical and psychological harm due to violence or coercion</a:t>
            </a:r>
            <a:endParaRPr b="0" lang="en-US" sz="2000" spc="-1" strike="noStrike">
              <a:solidFill>
                <a:srgbClr val="000000"/>
              </a:solidFill>
              <a:latin typeface="Calibri"/>
            </a:endParaRPr>
          </a:p>
        </p:txBody>
      </p:sp>
      <p:sp>
        <p:nvSpPr>
          <p:cNvPr id="477" name="object 31"/>
          <p:cNvSpPr/>
          <p:nvPr/>
        </p:nvSpPr>
        <p:spPr>
          <a:xfrm>
            <a:off x="4797360" y="5573880"/>
            <a:ext cx="1497240" cy="457200"/>
          </a:xfrm>
          <a:custGeom>
            <a:avLst/>
            <a:gdLst/>
            <a:ahLst/>
            <a:rect l="l" t="t" r="r" b="b"/>
            <a:pathLst>
              <a:path w="1496809" h="456615">
                <a:moveTo>
                  <a:pt x="0" y="0"/>
                </a:moveTo>
                <a:lnTo>
                  <a:pt x="1496809" y="0"/>
                </a:lnTo>
                <a:lnTo>
                  <a:pt x="1496809" y="456615"/>
                </a:lnTo>
                <a:lnTo>
                  <a:pt x="0" y="456615"/>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78" name="object 32"/>
          <p:cNvSpPr/>
          <p:nvPr/>
        </p:nvSpPr>
        <p:spPr>
          <a:xfrm>
            <a:off x="4870440" y="5573880"/>
            <a:ext cx="1374840" cy="40932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Principle 3</a:t>
            </a:r>
            <a:endParaRPr b="0" lang="en-US" sz="2500" spc="-1" strike="noStrike">
              <a:solidFill>
                <a:srgbClr val="000000"/>
              </a:solidFill>
              <a:latin typeface="Calibri"/>
            </a:endParaRPr>
          </a:p>
        </p:txBody>
      </p:sp>
      <p:sp>
        <p:nvSpPr>
          <p:cNvPr id="479" name="object 33"/>
          <p:cNvSpPr/>
          <p:nvPr/>
        </p:nvSpPr>
        <p:spPr>
          <a:xfrm>
            <a:off x="6807240" y="3330720"/>
            <a:ext cx="1647720" cy="232380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object 34"/>
          <p:cNvSpPr/>
          <p:nvPr/>
        </p:nvSpPr>
        <p:spPr>
          <a:xfrm>
            <a:off x="6710400" y="3454560"/>
            <a:ext cx="1901880" cy="18698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object 35"/>
          <p:cNvSpPr/>
          <p:nvPr/>
        </p:nvSpPr>
        <p:spPr>
          <a:xfrm>
            <a:off x="6851520" y="3351240"/>
            <a:ext cx="1562400" cy="223848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object 36"/>
          <p:cNvSpPr/>
          <p:nvPr/>
        </p:nvSpPr>
        <p:spPr>
          <a:xfrm>
            <a:off x="6896160" y="3567240"/>
            <a:ext cx="1473120" cy="1701720"/>
          </a:xfrm>
          <a:prstGeom prst="rect">
            <a:avLst/>
          </a:prstGeom>
          <a:noFill/>
          <a:ln w="0">
            <a:noFill/>
          </a:ln>
        </p:spPr>
        <p:style>
          <a:lnRef idx="0"/>
          <a:fillRef idx="0"/>
          <a:effectRef idx="0"/>
          <a:fontRef idx="minor"/>
        </p:style>
        <p:txBody>
          <a:bodyPr lIns="0" rIns="0" tIns="0" bIns="0" anchor="t">
            <a:normAutofit/>
          </a:bodyPr>
          <a:p>
            <a:pPr marL="12600"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ssist with rights claims, access to remedies and recovery from abuse</a:t>
            </a:r>
            <a:endParaRPr b="0" lang="en-US" sz="2000" spc="-1" strike="noStrike">
              <a:solidFill>
                <a:srgbClr val="000000"/>
              </a:solidFill>
              <a:latin typeface="Calibri"/>
            </a:endParaRPr>
          </a:p>
        </p:txBody>
      </p:sp>
      <p:sp>
        <p:nvSpPr>
          <p:cNvPr id="483" name="object 37"/>
          <p:cNvSpPr/>
          <p:nvPr/>
        </p:nvSpPr>
        <p:spPr>
          <a:xfrm>
            <a:off x="6967440" y="5564160"/>
            <a:ext cx="1374840" cy="40968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Principle 4</a:t>
            </a:r>
            <a:endParaRPr b="0" lang="en-US" sz="2500" spc="-1" strike="noStrike">
              <a:solidFill>
                <a:srgbClr val="000000"/>
              </a:solidFill>
              <a:latin typeface="Calibri"/>
            </a:endParaRPr>
          </a:p>
        </p:txBody>
      </p:sp>
      <p:sp>
        <p:nvSpPr>
          <p:cNvPr id="484" name="object 38"/>
          <p:cNvSpPr/>
          <p:nvPr/>
        </p:nvSpPr>
        <p:spPr>
          <a:xfrm>
            <a:off x="2620800" y="2089080"/>
            <a:ext cx="3727440" cy="85248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object 39"/>
          <p:cNvSpPr/>
          <p:nvPr/>
        </p:nvSpPr>
        <p:spPr>
          <a:xfrm>
            <a:off x="2741760" y="2081160"/>
            <a:ext cx="3492360" cy="62712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object 40"/>
          <p:cNvSpPr/>
          <p:nvPr/>
        </p:nvSpPr>
        <p:spPr>
          <a:xfrm>
            <a:off x="2665440" y="2109960"/>
            <a:ext cx="3643200" cy="76824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object 41"/>
          <p:cNvSpPr/>
          <p:nvPr/>
        </p:nvSpPr>
        <p:spPr>
          <a:xfrm>
            <a:off x="2987640" y="2193840"/>
            <a:ext cx="2998800" cy="45720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rotection Principles</a:t>
            </a:r>
            <a:endParaRPr b="0" lang="en-US" sz="2800" spc="-1" strike="noStrike">
              <a:solidFill>
                <a:srgbClr val="000000"/>
              </a:solidFill>
              <a:latin typeface="Calibri"/>
            </a:endParaRPr>
          </a:p>
        </p:txBody>
      </p:sp>
      <p:sp>
        <p:nvSpPr>
          <p:cNvPr id="488" name="object 42"/>
          <p:cNvSpPr/>
          <p:nvPr/>
        </p:nvSpPr>
        <p:spPr>
          <a:xfrm>
            <a:off x="7048440" y="236520"/>
            <a:ext cx="1255680" cy="125568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object 2"/>
          <p:cNvSpPr/>
          <p:nvPr/>
        </p:nvSpPr>
        <p:spPr>
          <a:xfrm>
            <a:off x="0" y="1000080"/>
            <a:ext cx="1238400" cy="5599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object 3"/>
          <p:cNvSpPr/>
          <p:nvPr/>
        </p:nvSpPr>
        <p:spPr>
          <a:xfrm>
            <a:off x="8245440" y="1752480"/>
            <a:ext cx="898560" cy="89856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object 4"/>
          <p:cNvSpPr/>
          <p:nvPr/>
        </p:nvSpPr>
        <p:spPr>
          <a:xfrm>
            <a:off x="8245440" y="2590920"/>
            <a:ext cx="898560" cy="8985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object 5"/>
          <p:cNvSpPr/>
          <p:nvPr/>
        </p:nvSpPr>
        <p:spPr>
          <a:xfrm>
            <a:off x="8245440" y="3429000"/>
            <a:ext cx="898560" cy="89856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object 6"/>
          <p:cNvSpPr/>
          <p:nvPr/>
        </p:nvSpPr>
        <p:spPr>
          <a:xfrm>
            <a:off x="8245440" y="4253040"/>
            <a:ext cx="898560" cy="89856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object 7"/>
          <p:cNvSpPr/>
          <p:nvPr/>
        </p:nvSpPr>
        <p:spPr>
          <a:xfrm>
            <a:off x="8245440" y="5103720"/>
            <a:ext cx="898560" cy="89856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object 8"/>
          <p:cNvSpPr/>
          <p:nvPr/>
        </p:nvSpPr>
        <p:spPr>
          <a:xfrm>
            <a:off x="8245440" y="0"/>
            <a:ext cx="898560" cy="18129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object 9"/>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
        <p:nvSpPr>
          <p:cNvPr id="497" name="object 10"/>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98" name="object 11"/>
          <p:cNvSpPr/>
          <p:nvPr/>
        </p:nvSpPr>
        <p:spPr>
          <a:xfrm>
            <a:off x="1420920" y="1308240"/>
            <a:ext cx="4433760" cy="457200"/>
          </a:xfrm>
          <a:prstGeom prst="rect">
            <a:avLst/>
          </a:prstGeom>
          <a:noFill/>
          <a:ln w="0">
            <a:noFill/>
          </a:ln>
        </p:spPr>
        <p:style>
          <a:lnRef idx="0"/>
          <a:fillRef idx="0"/>
          <a:effectRef idx="0"/>
          <a:fontRef idx="minor"/>
        </p:style>
        <p:txBody>
          <a:bodyPr lIns="0" rIns="0" tIns="0" bIns="0" anchor="t">
            <a:no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itarian agencies should:</a:t>
            </a:r>
            <a:endParaRPr b="0" lang="en-US" sz="2800" spc="-1" strike="noStrike">
              <a:solidFill>
                <a:srgbClr val="000000"/>
              </a:solidFill>
              <a:latin typeface="Calibri"/>
            </a:endParaRPr>
          </a:p>
        </p:txBody>
      </p:sp>
      <p:sp>
        <p:nvSpPr>
          <p:cNvPr id="499" name="object 12"/>
          <p:cNvSpPr/>
          <p:nvPr/>
        </p:nvSpPr>
        <p:spPr>
          <a:xfrm>
            <a:off x="1420920" y="1811160"/>
            <a:ext cx="6711840" cy="3173760"/>
          </a:xfrm>
          <a:prstGeom prst="rect">
            <a:avLst/>
          </a:prstGeom>
          <a:noFill/>
          <a:ln w="0">
            <a:noFill/>
          </a:ln>
        </p:spPr>
        <p:style>
          <a:lnRef idx="0"/>
          <a:fillRef idx="0"/>
          <a:effectRef idx="0"/>
          <a:fontRef idx="minor"/>
        </p:style>
        <p:txBody>
          <a:bodyPr lIns="0" rIns="0" tIns="0" bIns="0" anchor="t">
            <a:normAutofit/>
          </a:bodyPr>
          <a:p>
            <a:pPr marL="355680" indent="-343080">
              <a:lnSpc>
                <a:spcPct val="100000"/>
              </a:lnSpc>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scribe in their reports the gap between Sphere indicators and ones reached in practice</a:t>
            </a:r>
            <a:endParaRPr b="0" lang="en-US" sz="2400" spc="-1" strike="noStrike">
              <a:solidFill>
                <a:srgbClr val="000000"/>
              </a:solidFill>
              <a:latin typeface="Calibri"/>
            </a:endParaRPr>
          </a:p>
          <a:p>
            <a:pPr marL="355680" indent="-343080">
              <a:lnSpc>
                <a:spcPts val="550"/>
              </a:lnSpc>
              <a:spcBef>
                <a:spcPts val="26"/>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55680" indent="-343080">
              <a:lnSpc>
                <a:spcPct val="100000"/>
              </a:lnSpc>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xplain the reasons for this and what needs to be changed</a:t>
            </a:r>
            <a:endParaRPr b="0" lang="en-US" sz="2400" spc="-1" strike="noStrike">
              <a:solidFill>
                <a:srgbClr val="000000"/>
              </a:solidFill>
              <a:latin typeface="Calibri"/>
            </a:endParaRPr>
          </a:p>
          <a:p>
            <a:pPr marL="355680" indent="-343080">
              <a:lnSpc>
                <a:spcPts val="550"/>
              </a:lnSpc>
              <a:spcBef>
                <a:spcPts val="26"/>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55680" indent="-343080">
              <a:lnSpc>
                <a:spcPct val="100000"/>
              </a:lnSpc>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ess the negative implications for the affected population</a:t>
            </a:r>
            <a:endParaRPr b="0" lang="en-US" sz="2400" spc="-1" strike="noStrike">
              <a:solidFill>
                <a:srgbClr val="000000"/>
              </a:solidFill>
              <a:latin typeface="Calibri"/>
            </a:endParaRPr>
          </a:p>
          <a:p>
            <a:pPr marL="355680" indent="-343080">
              <a:lnSpc>
                <a:spcPts val="550"/>
              </a:lnSpc>
              <a:spcBef>
                <a:spcPts val="26"/>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55680" indent="-343080">
              <a:lnSpc>
                <a:spcPct val="100000"/>
              </a:lnSpc>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ake appropriate mitigating actions to minimise the harm caused by these implications.</a:t>
            </a:r>
            <a:endParaRPr b="0" lang="en-US" sz="2400" spc="-1" strike="noStrike">
              <a:solidFill>
                <a:srgbClr val="000000"/>
              </a:solidFill>
              <a:latin typeface="Calibri"/>
            </a:endParaRPr>
          </a:p>
        </p:txBody>
      </p:sp>
      <p:sp>
        <p:nvSpPr>
          <p:cNvPr id="500" name="object 13"/>
          <p:cNvSpPr/>
          <p:nvPr/>
        </p:nvSpPr>
        <p:spPr>
          <a:xfrm>
            <a:off x="930240" y="216000"/>
            <a:ext cx="7156440" cy="84780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2" name="object 4"/>
          <p:cNvSpPr/>
          <p:nvPr/>
        </p:nvSpPr>
        <p:spPr>
          <a:xfrm>
            <a:off x="1641600" y="1393920"/>
            <a:ext cx="6424560" cy="4213080"/>
          </a:xfrm>
          <a:prstGeom prst="rect">
            <a:avLst/>
          </a:prstGeom>
          <a:noFill/>
          <a:ln w="0">
            <a:noFill/>
          </a:ln>
        </p:spPr>
        <p:style>
          <a:lnRef idx="0"/>
          <a:fillRef idx="0"/>
          <a:effectRef idx="0"/>
          <a:fontRef idx="minor"/>
        </p:style>
        <p:txBody>
          <a:bodyPr lIns="0" rIns="0" tIns="0" bIns="0" anchor="t">
            <a:norm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the end of the session participants will be able to</a:t>
            </a:r>
            <a:endParaRPr b="0" lang="en-US" sz="2800" spc="-1" strike="noStrike">
              <a:solidFill>
                <a:srgbClr val="000000"/>
              </a:solidFill>
              <a:latin typeface="Calibri"/>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scribe Sphere background, Philosophy and structure</a:t>
            </a:r>
            <a:endParaRPr b="0" lang="en-US" sz="2800" spc="-1" strike="noStrike">
              <a:solidFill>
                <a:srgbClr val="000000"/>
              </a:solidFill>
              <a:latin typeface="Calibri"/>
            </a:endParaRPr>
          </a:p>
          <a:p>
            <a:pPr marL="12600">
              <a:lnSpc>
                <a:spcPts val="649"/>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st the protection principles</a:t>
            </a:r>
            <a:endParaRPr b="0" lang="en-US" sz="2800" spc="-1" strike="noStrike">
              <a:solidFill>
                <a:srgbClr val="000000"/>
              </a:solidFill>
              <a:latin typeface="Calibri"/>
            </a:endParaRPr>
          </a:p>
          <a:p>
            <a:pPr marL="12600">
              <a:lnSpc>
                <a:spcPts val="649"/>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scribe ways and means of incorporating protection principles in their work</a:t>
            </a:r>
            <a:endParaRPr b="0" lang="en-US" sz="2800" spc="-1" strike="noStrike">
              <a:solidFill>
                <a:srgbClr val="000000"/>
              </a:solidFill>
              <a:latin typeface="Calibri"/>
            </a:endParaRPr>
          </a:p>
          <a:p>
            <a:pPr marL="12600">
              <a:lnSpc>
                <a:spcPts val="649"/>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st the articles in Code of Conduct</a:t>
            </a:r>
            <a:endParaRPr b="0" lang="en-US" sz="2800" spc="-1" strike="noStrike">
              <a:solidFill>
                <a:srgbClr val="000000"/>
              </a:solidFill>
              <a:latin typeface="Calibri"/>
            </a:endParaRPr>
          </a:p>
        </p:txBody>
      </p:sp>
      <p:sp>
        <p:nvSpPr>
          <p:cNvPr id="293" name="object 6"/>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object 7"/>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7" name="object 4"/>
          <p:cNvSpPr/>
          <p:nvPr/>
        </p:nvSpPr>
        <p:spPr>
          <a:xfrm>
            <a:off x="1641600" y="1393920"/>
            <a:ext cx="6424560" cy="4213080"/>
          </a:xfrm>
          <a:prstGeom prst="rect">
            <a:avLst/>
          </a:prstGeom>
          <a:noFill/>
          <a:ln w="0">
            <a:noFill/>
          </a:ln>
        </p:spPr>
        <p:style>
          <a:lnRef idx="0"/>
          <a:fillRef idx="0"/>
          <a:effectRef idx="0"/>
          <a:fontRef idx="minor"/>
        </p:style>
        <p:txBody>
          <a:bodyPr lIns="0" rIns="0" tIns="0" bIns="0" anchor="t">
            <a:normAutofit/>
          </a:bodyPr>
          <a:p>
            <a:pPr marL="355680" indent="-343080">
              <a:lnSpc>
                <a:spcPct val="100000"/>
              </a:lnSpc>
              <a:buClr>
                <a:srgbClr val="669900"/>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ntroduction to Sphere Project</a:t>
            </a:r>
            <a:endParaRPr b="0" lang="en-US" sz="3200" spc="-1" strike="noStrike">
              <a:solidFill>
                <a:srgbClr val="000000"/>
              </a:solidFill>
              <a:latin typeface="Calibri"/>
            </a:endParaRPr>
          </a:p>
          <a:p>
            <a:pPr marL="355680" indent="-343080">
              <a:lnSpc>
                <a:spcPct val="100000"/>
              </a:lnSpc>
              <a:buClr>
                <a:srgbClr val="669900"/>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ea typeface="Calibri"/>
              </a:rPr>
              <a:t>Protection Principles</a:t>
            </a:r>
            <a:endParaRPr b="0" lang="en-US" sz="3200" spc="-1" strike="noStrike">
              <a:solidFill>
                <a:srgbClr val="000000"/>
              </a:solidFill>
              <a:latin typeface="Calibri"/>
            </a:endParaRPr>
          </a:p>
          <a:p>
            <a:pPr marL="355680" indent="-343080">
              <a:lnSpc>
                <a:spcPct val="100000"/>
              </a:lnSpc>
              <a:buClr>
                <a:srgbClr val="669900"/>
              </a:buClr>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ea typeface="Calibri"/>
              </a:rPr>
              <a:t>Code of Conduct</a:t>
            </a:r>
            <a:endParaRPr b="0" lang="en-US" sz="3200" spc="-1" strike="noStrike">
              <a:solidFill>
                <a:srgbClr val="000000"/>
              </a:solidFill>
              <a:latin typeface="Calibri"/>
            </a:endParaRPr>
          </a:p>
          <a:p>
            <a:pPr marL="355680" indent="-343080">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object 7"/>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
        <p:nvSpPr>
          <p:cNvPr id="299" name="object 7"/>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object 2"/>
          <p:cNvSpPr/>
          <p:nvPr/>
        </p:nvSpPr>
        <p:spPr>
          <a:xfrm>
            <a:off x="8245440" y="0"/>
            <a:ext cx="898560" cy="18129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object 3"/>
          <p:cNvSpPr/>
          <p:nvPr/>
        </p:nvSpPr>
        <p:spPr>
          <a:xfrm>
            <a:off x="12384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02" name="object 4"/>
          <p:cNvSpPr/>
          <p:nvPr/>
        </p:nvSpPr>
        <p:spPr>
          <a:xfrm>
            <a:off x="0" y="0"/>
            <a:ext cx="7635960" cy="13874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object 5"/>
          <p:cNvSpPr/>
          <p:nvPr/>
        </p:nvSpPr>
        <p:spPr>
          <a:xfrm>
            <a:off x="387360" y="1390680"/>
            <a:ext cx="8485200" cy="45831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object 6"/>
          <p:cNvSpPr/>
          <p:nvPr/>
        </p:nvSpPr>
        <p:spPr>
          <a:xfrm>
            <a:off x="2517840" y="5143680"/>
            <a:ext cx="3511440" cy="376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Based on 2 Core Beliefs</a:t>
            </a:r>
            <a:endParaRPr b="0" lang="en-US" sz="2400" spc="-1" strike="noStrike">
              <a:solidFill>
                <a:srgbClr val="000000"/>
              </a:solidFill>
              <a:latin typeface="Calibri"/>
            </a:endParaRPr>
          </a:p>
        </p:txBody>
      </p:sp>
      <p:sp>
        <p:nvSpPr>
          <p:cNvPr id="305" name="object 7"/>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object 2"/>
          <p:cNvSpPr/>
          <p:nvPr/>
        </p:nvSpPr>
        <p:spPr>
          <a:xfrm>
            <a:off x="1700280" y="4237200"/>
            <a:ext cx="1008000" cy="741240"/>
          </a:xfrm>
          <a:prstGeom prst="rect">
            <a:avLst/>
          </a:prstGeom>
          <a:noFill/>
          <a:ln w="0">
            <a:noFill/>
          </a:ln>
        </p:spPr>
        <p:style>
          <a:lnRef idx="0"/>
          <a:fillRef idx="0"/>
          <a:effectRef idx="0"/>
          <a:fontRef idx="minor"/>
        </p:style>
        <p:txBody>
          <a:bodyPr lIns="0" rIns="0" tIns="0" bIns="0" anchor="t">
            <a:noAutofit/>
          </a:bodyPr>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4000+</a:t>
            </a:r>
            <a:endParaRPr b="0" lang="en-US" sz="2400" spc="-1" strike="noStrike">
              <a:solidFill>
                <a:srgbClr val="000000"/>
              </a:solidFill>
              <a:latin typeface="Calibri"/>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ople</a:t>
            </a:r>
            <a:endParaRPr b="0" lang="en-US" sz="2400" spc="-1" strike="noStrike">
              <a:solidFill>
                <a:srgbClr val="000000"/>
              </a:solidFill>
              <a:latin typeface="Calibri"/>
            </a:endParaRPr>
          </a:p>
        </p:txBody>
      </p:sp>
      <p:sp>
        <p:nvSpPr>
          <p:cNvPr id="307" name="object 3"/>
          <p:cNvSpPr/>
          <p:nvPr/>
        </p:nvSpPr>
        <p:spPr>
          <a:xfrm>
            <a:off x="2590920" y="4489560"/>
            <a:ext cx="2476440" cy="2139840"/>
          </a:xfrm>
          <a:custGeom>
            <a:avLst/>
            <a:gdLst/>
            <a:ahLst/>
            <a:rect l="l" t="t" r="r" b="b"/>
            <a:pathLst>
              <a:path w="2476500" h="2139213">
                <a:moveTo>
                  <a:pt x="2324100" y="1224813"/>
                </a:moveTo>
                <a:lnTo>
                  <a:pt x="152400" y="1224813"/>
                </a:lnTo>
                <a:lnTo>
                  <a:pt x="138125" y="1225473"/>
                </a:lnTo>
                <a:lnTo>
                  <a:pt x="96611" y="1235349"/>
                </a:lnTo>
                <a:lnTo>
                  <a:pt x="60377" y="1255725"/>
                </a:lnTo>
                <a:lnTo>
                  <a:pt x="31158" y="1284867"/>
                </a:lnTo>
                <a:lnTo>
                  <a:pt x="10687" y="1321040"/>
                </a:lnTo>
                <a:lnTo>
                  <a:pt x="700" y="1362511"/>
                </a:lnTo>
                <a:lnTo>
                  <a:pt x="0" y="1377213"/>
                </a:lnTo>
                <a:lnTo>
                  <a:pt x="0" y="1986813"/>
                </a:lnTo>
                <a:lnTo>
                  <a:pt x="5991" y="2029269"/>
                </a:lnTo>
                <a:lnTo>
                  <a:pt x="23060" y="2067457"/>
                </a:lnTo>
                <a:lnTo>
                  <a:pt x="49472" y="2099206"/>
                </a:lnTo>
                <a:lnTo>
                  <a:pt x="83495" y="2122783"/>
                </a:lnTo>
                <a:lnTo>
                  <a:pt x="123393" y="2136456"/>
                </a:lnTo>
                <a:lnTo>
                  <a:pt x="152400" y="2139213"/>
                </a:lnTo>
                <a:lnTo>
                  <a:pt x="2324100" y="2139213"/>
                </a:lnTo>
                <a:lnTo>
                  <a:pt x="2366551" y="2133222"/>
                </a:lnTo>
                <a:lnTo>
                  <a:pt x="2404738" y="2116156"/>
                </a:lnTo>
                <a:lnTo>
                  <a:pt x="2436488" y="2089745"/>
                </a:lnTo>
                <a:lnTo>
                  <a:pt x="2460067" y="2055723"/>
                </a:lnTo>
                <a:lnTo>
                  <a:pt x="2473742" y="2015823"/>
                </a:lnTo>
                <a:lnTo>
                  <a:pt x="2476500" y="1986813"/>
                </a:lnTo>
                <a:lnTo>
                  <a:pt x="2476500" y="1377213"/>
                </a:lnTo>
                <a:lnTo>
                  <a:pt x="2470508" y="1334761"/>
                </a:lnTo>
                <a:lnTo>
                  <a:pt x="2453439" y="1296574"/>
                </a:lnTo>
                <a:lnTo>
                  <a:pt x="2427027" y="1264824"/>
                </a:lnTo>
                <a:lnTo>
                  <a:pt x="2393004" y="1241245"/>
                </a:lnTo>
                <a:lnTo>
                  <a:pt x="2353106" y="1227570"/>
                </a:lnTo>
                <a:lnTo>
                  <a:pt x="2324100" y="1224813"/>
                </a:lnTo>
                <a:close/>
              </a:path>
              <a:path w="2476500" h="2139213">
                <a:moveTo>
                  <a:pt x="1708861" y="0"/>
                </a:moveTo>
                <a:lnTo>
                  <a:pt x="1444625" y="1224813"/>
                </a:lnTo>
                <a:lnTo>
                  <a:pt x="2063750" y="1224813"/>
                </a:lnTo>
                <a:lnTo>
                  <a:pt x="1708861" y="0"/>
                </a:lnTo>
                <a:close/>
              </a:path>
            </a:pathLst>
          </a:custGeom>
          <a:solidFill>
            <a:srgbClr val="0070c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08" name="object 4"/>
          <p:cNvSpPr/>
          <p:nvPr/>
        </p:nvSpPr>
        <p:spPr>
          <a:xfrm>
            <a:off x="2590920" y="4489560"/>
            <a:ext cx="2476440" cy="2139840"/>
          </a:xfrm>
          <a:custGeom>
            <a:avLst/>
            <a:gdLst/>
            <a:ahLst/>
            <a:rect l="l" t="t" r="r" b="b"/>
            <a:pathLst>
              <a:path w="2476500" h="2139213">
                <a:moveTo>
                  <a:pt x="2476500" y="1986813"/>
                </a:moveTo>
                <a:lnTo>
                  <a:pt x="2470391" y="2029670"/>
                </a:lnTo>
                <a:lnTo>
                  <a:pt x="2453222" y="2067803"/>
                </a:lnTo>
                <a:lnTo>
                  <a:pt x="2426727" y="2099480"/>
                </a:lnTo>
                <a:lnTo>
                  <a:pt x="2392639" y="2122968"/>
                </a:lnTo>
                <a:lnTo>
                  <a:pt x="2352692" y="2136535"/>
                </a:lnTo>
                <a:lnTo>
                  <a:pt x="2324100" y="2139213"/>
                </a:lnTo>
                <a:lnTo>
                  <a:pt x="2063750" y="2139213"/>
                </a:lnTo>
                <a:lnTo>
                  <a:pt x="1444625" y="2139213"/>
                </a:lnTo>
                <a:lnTo>
                  <a:pt x="152400" y="2139213"/>
                </a:lnTo>
                <a:lnTo>
                  <a:pt x="137698" y="2138513"/>
                </a:lnTo>
                <a:lnTo>
                  <a:pt x="123393" y="2136456"/>
                </a:lnTo>
                <a:lnTo>
                  <a:pt x="83495" y="2122783"/>
                </a:lnTo>
                <a:lnTo>
                  <a:pt x="49472" y="2099206"/>
                </a:lnTo>
                <a:lnTo>
                  <a:pt x="23060" y="2067457"/>
                </a:lnTo>
                <a:lnTo>
                  <a:pt x="5991" y="2029269"/>
                </a:lnTo>
                <a:lnTo>
                  <a:pt x="0" y="1986813"/>
                </a:lnTo>
                <a:lnTo>
                  <a:pt x="0" y="1605813"/>
                </a:lnTo>
                <a:lnTo>
                  <a:pt x="0" y="1377213"/>
                </a:lnTo>
                <a:lnTo>
                  <a:pt x="700" y="1362511"/>
                </a:lnTo>
                <a:lnTo>
                  <a:pt x="2757" y="1348206"/>
                </a:lnTo>
                <a:lnTo>
                  <a:pt x="16432" y="1308308"/>
                </a:lnTo>
                <a:lnTo>
                  <a:pt x="40011" y="1274286"/>
                </a:lnTo>
                <a:lnTo>
                  <a:pt x="71761" y="1247873"/>
                </a:lnTo>
                <a:lnTo>
                  <a:pt x="109948" y="1230805"/>
                </a:lnTo>
                <a:lnTo>
                  <a:pt x="152400" y="1224813"/>
                </a:lnTo>
                <a:lnTo>
                  <a:pt x="1444625" y="1224813"/>
                </a:lnTo>
                <a:lnTo>
                  <a:pt x="1708861" y="0"/>
                </a:lnTo>
                <a:lnTo>
                  <a:pt x="2063750" y="1224813"/>
                </a:lnTo>
                <a:lnTo>
                  <a:pt x="2324100" y="1224813"/>
                </a:lnTo>
                <a:lnTo>
                  <a:pt x="2338801" y="1225513"/>
                </a:lnTo>
                <a:lnTo>
                  <a:pt x="2380272" y="1235501"/>
                </a:lnTo>
                <a:lnTo>
                  <a:pt x="2416446" y="1255971"/>
                </a:lnTo>
                <a:lnTo>
                  <a:pt x="2445587" y="1285190"/>
                </a:lnTo>
                <a:lnTo>
                  <a:pt x="2465963" y="1321424"/>
                </a:lnTo>
                <a:lnTo>
                  <a:pt x="2475840" y="1362939"/>
                </a:lnTo>
                <a:lnTo>
                  <a:pt x="2476500" y="1377213"/>
                </a:lnTo>
                <a:lnTo>
                  <a:pt x="2476500" y="1605813"/>
                </a:lnTo>
                <a:lnTo>
                  <a:pt x="2476500" y="1986813"/>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09" name="object 5"/>
          <p:cNvSpPr/>
          <p:nvPr/>
        </p:nvSpPr>
        <p:spPr>
          <a:xfrm>
            <a:off x="3519360" y="5799240"/>
            <a:ext cx="533520" cy="376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400</a:t>
            </a:r>
            <a:endParaRPr b="0" lang="en-US" sz="2400" spc="-1" strike="noStrike">
              <a:solidFill>
                <a:srgbClr val="000000"/>
              </a:solidFill>
              <a:latin typeface="Calibri"/>
            </a:endParaRPr>
          </a:p>
        </p:txBody>
      </p:sp>
      <p:sp>
        <p:nvSpPr>
          <p:cNvPr id="310" name="object 6"/>
          <p:cNvSpPr/>
          <p:nvPr/>
        </p:nvSpPr>
        <p:spPr>
          <a:xfrm>
            <a:off x="5275440" y="3613320"/>
            <a:ext cx="2954160" cy="1796760"/>
          </a:xfrm>
          <a:custGeom>
            <a:avLst/>
            <a:gdLst/>
            <a:ahLst/>
            <a:rect l="l" t="t" r="r" b="b"/>
            <a:pathLst>
              <a:path w="2954896" h="1797164">
                <a:moveTo>
                  <a:pt x="0" y="0"/>
                </a:moveTo>
                <a:lnTo>
                  <a:pt x="541896" y="730364"/>
                </a:lnTo>
                <a:lnTo>
                  <a:pt x="225293" y="730749"/>
                </a:lnTo>
                <a:lnTo>
                  <a:pt x="210826" y="732291"/>
                </a:lnTo>
                <a:lnTo>
                  <a:pt x="169831" y="743528"/>
                </a:lnTo>
                <a:lnTo>
                  <a:pt x="133434" y="763694"/>
                </a:lnTo>
                <a:lnTo>
                  <a:pt x="102908" y="791514"/>
                </a:lnTo>
                <a:lnTo>
                  <a:pt x="79528" y="825717"/>
                </a:lnTo>
                <a:lnTo>
                  <a:pt x="64566" y="865029"/>
                </a:lnTo>
                <a:lnTo>
                  <a:pt x="59296" y="908164"/>
                </a:lnTo>
                <a:lnTo>
                  <a:pt x="59296" y="1619364"/>
                </a:lnTo>
                <a:lnTo>
                  <a:pt x="59681" y="1631157"/>
                </a:lnTo>
                <a:lnTo>
                  <a:pt x="67657" y="1673404"/>
                </a:lnTo>
                <a:lnTo>
                  <a:pt x="84987" y="1711478"/>
                </a:lnTo>
                <a:lnTo>
                  <a:pt x="110396" y="1744104"/>
                </a:lnTo>
                <a:lnTo>
                  <a:pt x="142611" y="1770009"/>
                </a:lnTo>
                <a:lnTo>
                  <a:pt x="180360" y="1787920"/>
                </a:lnTo>
                <a:lnTo>
                  <a:pt x="222367" y="1796562"/>
                </a:lnTo>
                <a:lnTo>
                  <a:pt x="237096" y="1797164"/>
                </a:lnTo>
                <a:lnTo>
                  <a:pt x="1265796" y="1797164"/>
                </a:lnTo>
                <a:lnTo>
                  <a:pt x="2788889" y="1796779"/>
                </a:lnTo>
                <a:lnTo>
                  <a:pt x="2831136" y="1788802"/>
                </a:lnTo>
                <a:lnTo>
                  <a:pt x="2869210" y="1771473"/>
                </a:lnTo>
                <a:lnTo>
                  <a:pt x="2901836" y="1746064"/>
                </a:lnTo>
                <a:lnTo>
                  <a:pt x="2927741" y="1713848"/>
                </a:lnTo>
                <a:lnTo>
                  <a:pt x="2945652" y="1676100"/>
                </a:lnTo>
                <a:lnTo>
                  <a:pt x="2954294" y="1634093"/>
                </a:lnTo>
                <a:lnTo>
                  <a:pt x="2954896" y="1619364"/>
                </a:lnTo>
                <a:lnTo>
                  <a:pt x="2954896" y="908164"/>
                </a:lnTo>
                <a:lnTo>
                  <a:pt x="2950293" y="867804"/>
                </a:lnTo>
                <a:lnTo>
                  <a:pt x="2935939" y="828197"/>
                </a:lnTo>
                <a:lnTo>
                  <a:pt x="2913081" y="793613"/>
                </a:lnTo>
                <a:lnTo>
                  <a:pt x="2882993" y="765327"/>
                </a:lnTo>
                <a:lnTo>
                  <a:pt x="2846949" y="744611"/>
                </a:lnTo>
                <a:lnTo>
                  <a:pt x="2806221" y="732738"/>
                </a:lnTo>
                <a:lnTo>
                  <a:pt x="2777096" y="730364"/>
                </a:lnTo>
                <a:lnTo>
                  <a:pt x="1265796" y="730364"/>
                </a:lnTo>
                <a:lnTo>
                  <a:pt x="0" y="0"/>
                </a:lnTo>
                <a:close/>
              </a:path>
            </a:pathLst>
          </a:custGeom>
          <a:solidFill>
            <a:srgbClr val="0070c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1" name="object 7"/>
          <p:cNvSpPr/>
          <p:nvPr/>
        </p:nvSpPr>
        <p:spPr>
          <a:xfrm>
            <a:off x="5275440" y="3613320"/>
            <a:ext cx="2954160" cy="1796760"/>
          </a:xfrm>
          <a:custGeom>
            <a:avLst/>
            <a:gdLst/>
            <a:ahLst/>
            <a:rect l="l" t="t" r="r" b="b"/>
            <a:pathLst>
              <a:path w="2954896" h="1797164">
                <a:moveTo>
                  <a:pt x="2954896" y="1619364"/>
                </a:moveTo>
                <a:lnTo>
                  <a:pt x="2949625" y="1662508"/>
                </a:lnTo>
                <a:lnTo>
                  <a:pt x="2934662" y="1701817"/>
                </a:lnTo>
                <a:lnTo>
                  <a:pt x="2911280" y="1736019"/>
                </a:lnTo>
                <a:lnTo>
                  <a:pt x="2880753" y="1763838"/>
                </a:lnTo>
                <a:lnTo>
                  <a:pt x="2844354" y="1784002"/>
                </a:lnTo>
                <a:lnTo>
                  <a:pt x="2803357" y="1795238"/>
                </a:lnTo>
                <a:lnTo>
                  <a:pt x="1265796" y="1797164"/>
                </a:lnTo>
                <a:lnTo>
                  <a:pt x="541896" y="1797164"/>
                </a:lnTo>
                <a:lnTo>
                  <a:pt x="237096" y="1797164"/>
                </a:lnTo>
                <a:lnTo>
                  <a:pt x="193952" y="1791893"/>
                </a:lnTo>
                <a:lnTo>
                  <a:pt x="154642" y="1776930"/>
                </a:lnTo>
                <a:lnTo>
                  <a:pt x="120441" y="1753548"/>
                </a:lnTo>
                <a:lnTo>
                  <a:pt x="92622" y="1723021"/>
                </a:lnTo>
                <a:lnTo>
                  <a:pt x="72457" y="1686622"/>
                </a:lnTo>
                <a:lnTo>
                  <a:pt x="61222" y="1645625"/>
                </a:lnTo>
                <a:lnTo>
                  <a:pt x="59296" y="1619364"/>
                </a:lnTo>
                <a:lnTo>
                  <a:pt x="59296" y="1174864"/>
                </a:lnTo>
                <a:lnTo>
                  <a:pt x="59296" y="908164"/>
                </a:lnTo>
                <a:lnTo>
                  <a:pt x="59897" y="893446"/>
                </a:lnTo>
                <a:lnTo>
                  <a:pt x="61670" y="879048"/>
                </a:lnTo>
                <a:lnTo>
                  <a:pt x="73542" y="838316"/>
                </a:lnTo>
                <a:lnTo>
                  <a:pt x="94258" y="802269"/>
                </a:lnTo>
                <a:lnTo>
                  <a:pt x="122543" y="772180"/>
                </a:lnTo>
                <a:lnTo>
                  <a:pt x="157124" y="749321"/>
                </a:lnTo>
                <a:lnTo>
                  <a:pt x="196728" y="734966"/>
                </a:lnTo>
                <a:lnTo>
                  <a:pt x="541896" y="730364"/>
                </a:lnTo>
                <a:lnTo>
                  <a:pt x="0" y="0"/>
                </a:lnTo>
                <a:lnTo>
                  <a:pt x="1265796" y="730364"/>
                </a:lnTo>
                <a:lnTo>
                  <a:pt x="2777096" y="730364"/>
                </a:lnTo>
                <a:lnTo>
                  <a:pt x="2791824" y="730965"/>
                </a:lnTo>
                <a:lnTo>
                  <a:pt x="2833830" y="739608"/>
                </a:lnTo>
                <a:lnTo>
                  <a:pt x="2871577" y="757518"/>
                </a:lnTo>
                <a:lnTo>
                  <a:pt x="2903792" y="783422"/>
                </a:lnTo>
                <a:lnTo>
                  <a:pt x="2929202" y="816048"/>
                </a:lnTo>
                <a:lnTo>
                  <a:pt x="2946532" y="854122"/>
                </a:lnTo>
                <a:lnTo>
                  <a:pt x="2954510" y="896372"/>
                </a:lnTo>
                <a:lnTo>
                  <a:pt x="2954896" y="908164"/>
                </a:lnTo>
                <a:lnTo>
                  <a:pt x="2954896" y="1174864"/>
                </a:lnTo>
                <a:lnTo>
                  <a:pt x="2954896" y="1619364"/>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2" name="object 8"/>
          <p:cNvSpPr/>
          <p:nvPr/>
        </p:nvSpPr>
        <p:spPr>
          <a:xfrm>
            <a:off x="5494320" y="4503600"/>
            <a:ext cx="2498760" cy="741600"/>
          </a:xfrm>
          <a:prstGeom prst="rect">
            <a:avLst/>
          </a:prstGeom>
          <a:noFill/>
          <a:ln w="0">
            <a:noFill/>
          </a:ln>
        </p:spPr>
        <p:style>
          <a:lnRef idx="0"/>
          <a:fillRef idx="0"/>
          <a:effectRef idx="0"/>
          <a:fontRef idx="minor"/>
        </p:style>
        <p:txBody>
          <a:bodyPr lIns="0" rIns="0" tIns="0" bIns="0" anchor="t">
            <a:normAutofit/>
          </a:bodyPr>
          <a:p>
            <a:pPr marL="12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80 countries around the world</a:t>
            </a:r>
            <a:endParaRPr b="0" lang="en-US" sz="2400" spc="-1" strike="noStrike">
              <a:solidFill>
                <a:srgbClr val="000000"/>
              </a:solidFill>
              <a:latin typeface="Calibri"/>
            </a:endParaRPr>
          </a:p>
        </p:txBody>
      </p:sp>
      <p:sp>
        <p:nvSpPr>
          <p:cNvPr id="313" name="object 9"/>
          <p:cNvSpPr/>
          <p:nvPr/>
        </p:nvSpPr>
        <p:spPr>
          <a:xfrm>
            <a:off x="7156440" y="1752480"/>
            <a:ext cx="1146240" cy="87336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c34"/>
                </a:solidFill>
                <a:latin typeface="Arial Black"/>
                <a:ea typeface="Arial Black"/>
              </a:rPr>
              <a:t>2011</a:t>
            </a:r>
            <a:endParaRPr b="0" lang="en-US" sz="2000" spc="-1" strike="noStrike">
              <a:solidFill>
                <a:srgbClr val="000000"/>
              </a:solidFill>
              <a:latin typeface="Calibri"/>
            </a:endParaRPr>
          </a:p>
          <a:p>
            <a:pPr algn="ctr">
              <a:lnSpc>
                <a:spcPts val="216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c34"/>
                </a:solidFill>
                <a:latin typeface="Arial"/>
                <a:ea typeface="Arial"/>
              </a:rPr>
              <a:t>handbook revised</a:t>
            </a:r>
            <a:endParaRPr b="0" lang="en-US" sz="2000" spc="-1" strike="noStrike">
              <a:solidFill>
                <a:srgbClr val="000000"/>
              </a:solidFill>
              <a:latin typeface="Calibri"/>
            </a:endParaRPr>
          </a:p>
        </p:txBody>
      </p:sp>
      <p:sp>
        <p:nvSpPr>
          <p:cNvPr id="314" name="object 10"/>
          <p:cNvSpPr/>
          <p:nvPr/>
        </p:nvSpPr>
        <p:spPr>
          <a:xfrm>
            <a:off x="7012080" y="1738440"/>
            <a:ext cx="1598400" cy="928440"/>
          </a:xfrm>
          <a:custGeom>
            <a:avLst/>
            <a:gdLst/>
            <a:ahLst/>
            <a:rect l="l" t="t" r="r" b="b"/>
            <a:pathLst>
              <a:path w="1597977" h="928687">
                <a:moveTo>
                  <a:pt x="0" y="0"/>
                </a:moveTo>
                <a:lnTo>
                  <a:pt x="1597977" y="0"/>
                </a:lnTo>
                <a:lnTo>
                  <a:pt x="1597977" y="928687"/>
                </a:lnTo>
                <a:lnTo>
                  <a:pt x="0" y="928687"/>
                </a:lnTo>
                <a:lnTo>
                  <a:pt x="0" y="0"/>
                </a:lnTo>
                <a:close/>
              </a:path>
            </a:pathLst>
          </a:custGeom>
          <a:noFill/>
          <a:ln w="507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5" name="object 11"/>
          <p:cNvSpPr/>
          <p:nvPr/>
        </p:nvSpPr>
        <p:spPr>
          <a:xfrm>
            <a:off x="573120" y="1722600"/>
            <a:ext cx="703080" cy="3236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c34"/>
                </a:solidFill>
                <a:latin typeface="Arial Black"/>
                <a:ea typeface="Arial Black"/>
              </a:rPr>
              <a:t>1997</a:t>
            </a:r>
            <a:endParaRPr b="0" lang="en-US" sz="2000" spc="-1" strike="noStrike">
              <a:solidFill>
                <a:srgbClr val="000000"/>
              </a:solidFill>
              <a:latin typeface="Calibri"/>
            </a:endParaRPr>
          </a:p>
        </p:txBody>
      </p:sp>
      <p:sp>
        <p:nvSpPr>
          <p:cNvPr id="316" name="object 12"/>
          <p:cNvSpPr/>
          <p:nvPr/>
        </p:nvSpPr>
        <p:spPr>
          <a:xfrm>
            <a:off x="615960" y="2004840"/>
            <a:ext cx="619200" cy="316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c34"/>
                </a:solidFill>
                <a:latin typeface="Arial"/>
                <a:ea typeface="Arial"/>
              </a:rPr>
              <a:t>Initial</a:t>
            </a:r>
            <a:endParaRPr b="0" lang="en-US" sz="2000" spc="-1" strike="noStrike">
              <a:solidFill>
                <a:srgbClr val="000000"/>
              </a:solidFill>
              <a:latin typeface="Calibri"/>
            </a:endParaRPr>
          </a:p>
        </p:txBody>
      </p:sp>
      <p:sp>
        <p:nvSpPr>
          <p:cNvPr id="317" name="object 13"/>
          <p:cNvSpPr/>
          <p:nvPr/>
        </p:nvSpPr>
        <p:spPr>
          <a:xfrm>
            <a:off x="231840" y="2279520"/>
            <a:ext cx="1386000" cy="316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c34"/>
                </a:solidFill>
                <a:latin typeface="Arial"/>
                <a:ea typeface="Arial"/>
              </a:rPr>
              <a:t>consultation</a:t>
            </a:r>
            <a:endParaRPr b="0" lang="en-US" sz="2000" spc="-1" strike="noStrike">
              <a:solidFill>
                <a:srgbClr val="000000"/>
              </a:solidFill>
              <a:latin typeface="Calibri"/>
            </a:endParaRPr>
          </a:p>
        </p:txBody>
      </p:sp>
      <p:sp>
        <p:nvSpPr>
          <p:cNvPr id="318" name="object 14"/>
          <p:cNvSpPr/>
          <p:nvPr/>
        </p:nvSpPr>
        <p:spPr>
          <a:xfrm>
            <a:off x="30240" y="1738440"/>
            <a:ext cx="1776240" cy="839520"/>
          </a:xfrm>
          <a:custGeom>
            <a:avLst/>
            <a:gdLst/>
            <a:ahLst/>
            <a:rect l="l" t="t" r="r" b="b"/>
            <a:pathLst>
              <a:path w="1776018" h="839812">
                <a:moveTo>
                  <a:pt x="0" y="0"/>
                </a:moveTo>
                <a:lnTo>
                  <a:pt x="1776018" y="0"/>
                </a:lnTo>
                <a:lnTo>
                  <a:pt x="1776018" y="839812"/>
                </a:lnTo>
                <a:lnTo>
                  <a:pt x="0" y="839812"/>
                </a:lnTo>
                <a:lnTo>
                  <a:pt x="0" y="0"/>
                </a:lnTo>
                <a:close/>
              </a:path>
            </a:pathLst>
          </a:custGeom>
          <a:noFill/>
          <a:ln w="507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9" name="object 15"/>
          <p:cNvSpPr/>
          <p:nvPr/>
        </p:nvSpPr>
        <p:spPr>
          <a:xfrm>
            <a:off x="1600200" y="2014560"/>
            <a:ext cx="592200" cy="345960"/>
          </a:xfrm>
          <a:custGeom>
            <a:avLst/>
            <a:gdLst/>
            <a:ahLst/>
            <a:rect l="l" t="t" r="r" b="b"/>
            <a:pathLst>
              <a:path w="592010" h="345732">
                <a:moveTo>
                  <a:pt x="436435" y="0"/>
                </a:moveTo>
                <a:lnTo>
                  <a:pt x="436435" y="86436"/>
                </a:lnTo>
                <a:lnTo>
                  <a:pt x="0" y="86436"/>
                </a:lnTo>
                <a:lnTo>
                  <a:pt x="0" y="259295"/>
                </a:lnTo>
                <a:lnTo>
                  <a:pt x="436435" y="259295"/>
                </a:lnTo>
                <a:lnTo>
                  <a:pt x="436435" y="345732"/>
                </a:lnTo>
                <a:lnTo>
                  <a:pt x="592010" y="172872"/>
                </a:lnTo>
                <a:lnTo>
                  <a:pt x="436435" y="0"/>
                </a:lnTo>
                <a:close/>
              </a:path>
            </a:pathLst>
          </a:custGeom>
          <a:solidFill>
            <a:srgbClr val="31859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0" name="object 16"/>
          <p:cNvSpPr/>
          <p:nvPr/>
        </p:nvSpPr>
        <p:spPr>
          <a:xfrm>
            <a:off x="1600200" y="2014560"/>
            <a:ext cx="592200" cy="345960"/>
          </a:xfrm>
          <a:custGeom>
            <a:avLst/>
            <a:gdLst/>
            <a:ahLst/>
            <a:rect l="l" t="t" r="r" b="b"/>
            <a:pathLst>
              <a:path w="592010" h="345732">
                <a:moveTo>
                  <a:pt x="0" y="86436"/>
                </a:moveTo>
                <a:lnTo>
                  <a:pt x="436435" y="86436"/>
                </a:lnTo>
                <a:lnTo>
                  <a:pt x="436435" y="0"/>
                </a:lnTo>
                <a:lnTo>
                  <a:pt x="592010" y="172872"/>
                </a:lnTo>
                <a:lnTo>
                  <a:pt x="436435" y="345732"/>
                </a:lnTo>
                <a:lnTo>
                  <a:pt x="436435" y="259295"/>
                </a:lnTo>
                <a:lnTo>
                  <a:pt x="0" y="259295"/>
                </a:lnTo>
                <a:lnTo>
                  <a:pt x="0" y="86436"/>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1" name="object 17"/>
          <p:cNvSpPr/>
          <p:nvPr/>
        </p:nvSpPr>
        <p:spPr>
          <a:xfrm>
            <a:off x="5014800" y="1712880"/>
            <a:ext cx="1144800" cy="873000"/>
          </a:xfrm>
          <a:prstGeom prst="rect">
            <a:avLst/>
          </a:prstGeom>
          <a:noFill/>
          <a:ln w="0">
            <a:noFill/>
          </a:ln>
        </p:spPr>
        <p:style>
          <a:lnRef idx="0"/>
          <a:fillRef idx="0"/>
          <a:effectRef idx="0"/>
          <a:fontRef idx="minor"/>
        </p:style>
        <p:txBody>
          <a:bodyPr lIns="0" rIns="0" tIns="0" bIns="0" anchor="t">
            <a:norm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c34"/>
                </a:solidFill>
                <a:latin typeface="Arial Black"/>
                <a:ea typeface="Arial Black"/>
              </a:rPr>
              <a:t>2004</a:t>
            </a:r>
            <a:endParaRPr b="0" lang="en-US" sz="2000" spc="-1" strike="noStrike">
              <a:solidFill>
                <a:srgbClr val="000000"/>
              </a:solidFill>
              <a:latin typeface="Calibri"/>
            </a:endParaRPr>
          </a:p>
          <a:p>
            <a:pPr marL="1440" algn="ctr">
              <a:lnSpc>
                <a:spcPts val="216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c34"/>
                </a:solidFill>
                <a:latin typeface="Arial"/>
                <a:ea typeface="Arial"/>
              </a:rPr>
              <a:t>handbook revised</a:t>
            </a:r>
            <a:endParaRPr b="0" lang="en-US" sz="2000" spc="-1" strike="noStrike">
              <a:solidFill>
                <a:srgbClr val="000000"/>
              </a:solidFill>
              <a:latin typeface="Calibri"/>
            </a:endParaRPr>
          </a:p>
        </p:txBody>
      </p:sp>
      <p:sp>
        <p:nvSpPr>
          <p:cNvPr id="322" name="object 18"/>
          <p:cNvSpPr/>
          <p:nvPr/>
        </p:nvSpPr>
        <p:spPr>
          <a:xfrm>
            <a:off x="4648320" y="1714680"/>
            <a:ext cx="1873080" cy="952200"/>
          </a:xfrm>
          <a:custGeom>
            <a:avLst/>
            <a:gdLst/>
            <a:ahLst/>
            <a:rect l="l" t="t" r="r" b="b"/>
            <a:pathLst>
              <a:path w="1873250" h="952500">
                <a:moveTo>
                  <a:pt x="0" y="0"/>
                </a:moveTo>
                <a:lnTo>
                  <a:pt x="1873250" y="0"/>
                </a:lnTo>
                <a:lnTo>
                  <a:pt x="1873250" y="952500"/>
                </a:lnTo>
                <a:lnTo>
                  <a:pt x="0" y="952500"/>
                </a:lnTo>
                <a:lnTo>
                  <a:pt x="0" y="0"/>
                </a:lnTo>
                <a:close/>
              </a:path>
            </a:pathLst>
          </a:custGeom>
          <a:noFill/>
          <a:ln w="507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3" name="object 19"/>
          <p:cNvSpPr/>
          <p:nvPr/>
        </p:nvSpPr>
        <p:spPr>
          <a:xfrm>
            <a:off x="6541920" y="1974960"/>
            <a:ext cx="468360" cy="328680"/>
          </a:xfrm>
          <a:custGeom>
            <a:avLst/>
            <a:gdLst/>
            <a:ahLst/>
            <a:rect l="l" t="t" r="r" b="b"/>
            <a:pathLst>
              <a:path w="468312" h="328828">
                <a:moveTo>
                  <a:pt x="336778" y="0"/>
                </a:moveTo>
                <a:lnTo>
                  <a:pt x="336778" y="82207"/>
                </a:lnTo>
                <a:lnTo>
                  <a:pt x="0" y="82207"/>
                </a:lnTo>
                <a:lnTo>
                  <a:pt x="0" y="246621"/>
                </a:lnTo>
                <a:lnTo>
                  <a:pt x="336778" y="246621"/>
                </a:lnTo>
                <a:lnTo>
                  <a:pt x="336778" y="328828"/>
                </a:lnTo>
                <a:lnTo>
                  <a:pt x="468312" y="164414"/>
                </a:lnTo>
                <a:lnTo>
                  <a:pt x="336778" y="0"/>
                </a:lnTo>
                <a:close/>
              </a:path>
            </a:pathLst>
          </a:custGeom>
          <a:solidFill>
            <a:srgbClr val="31859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4" name="object 20"/>
          <p:cNvSpPr/>
          <p:nvPr/>
        </p:nvSpPr>
        <p:spPr>
          <a:xfrm>
            <a:off x="6541920" y="1974960"/>
            <a:ext cx="468360" cy="328680"/>
          </a:xfrm>
          <a:custGeom>
            <a:avLst/>
            <a:gdLst/>
            <a:ahLst/>
            <a:rect l="l" t="t" r="r" b="b"/>
            <a:pathLst>
              <a:path w="468312" h="328828">
                <a:moveTo>
                  <a:pt x="0" y="82207"/>
                </a:moveTo>
                <a:lnTo>
                  <a:pt x="336778" y="82207"/>
                </a:lnTo>
                <a:lnTo>
                  <a:pt x="336778" y="0"/>
                </a:lnTo>
                <a:lnTo>
                  <a:pt x="468312" y="164414"/>
                </a:lnTo>
                <a:lnTo>
                  <a:pt x="336778" y="328828"/>
                </a:lnTo>
                <a:lnTo>
                  <a:pt x="336778" y="246621"/>
                </a:lnTo>
                <a:lnTo>
                  <a:pt x="0" y="246621"/>
                </a:lnTo>
                <a:lnTo>
                  <a:pt x="0" y="82207"/>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5" name="object 21"/>
          <p:cNvSpPr/>
          <p:nvPr/>
        </p:nvSpPr>
        <p:spPr>
          <a:xfrm>
            <a:off x="2622600" y="1676520"/>
            <a:ext cx="1144440" cy="8730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c34"/>
                </a:solidFill>
                <a:latin typeface="Arial Black"/>
                <a:ea typeface="Arial Black"/>
              </a:rPr>
              <a:t>2000</a:t>
            </a:r>
            <a:endParaRPr b="0" lang="en-US" sz="2000" spc="-1" strike="noStrike">
              <a:solidFill>
                <a:srgbClr val="000000"/>
              </a:solidFill>
              <a:latin typeface="Calibri"/>
            </a:endParaRPr>
          </a:p>
          <a:p>
            <a:pPr algn="ctr">
              <a:lnSpc>
                <a:spcPts val="216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c34"/>
                </a:solidFill>
                <a:latin typeface="Arial"/>
                <a:ea typeface="Arial"/>
              </a:rPr>
              <a:t>handbook launched</a:t>
            </a:r>
            <a:endParaRPr b="0" lang="en-US" sz="2000" spc="-1" strike="noStrike">
              <a:solidFill>
                <a:srgbClr val="000000"/>
              </a:solidFill>
              <a:latin typeface="Calibri"/>
            </a:endParaRPr>
          </a:p>
        </p:txBody>
      </p:sp>
      <p:sp>
        <p:nvSpPr>
          <p:cNvPr id="326" name="object 22"/>
          <p:cNvSpPr/>
          <p:nvPr/>
        </p:nvSpPr>
        <p:spPr>
          <a:xfrm>
            <a:off x="2209680" y="1676520"/>
            <a:ext cx="1973520" cy="944280"/>
          </a:xfrm>
          <a:custGeom>
            <a:avLst/>
            <a:gdLst/>
            <a:ahLst/>
            <a:rect l="l" t="t" r="r" b="b"/>
            <a:pathLst>
              <a:path w="1973643" h="944562">
                <a:moveTo>
                  <a:pt x="0" y="0"/>
                </a:moveTo>
                <a:lnTo>
                  <a:pt x="1973643" y="0"/>
                </a:lnTo>
                <a:lnTo>
                  <a:pt x="1973643" y="944562"/>
                </a:lnTo>
                <a:lnTo>
                  <a:pt x="0" y="944562"/>
                </a:lnTo>
                <a:lnTo>
                  <a:pt x="0" y="0"/>
                </a:lnTo>
                <a:close/>
              </a:path>
            </a:pathLst>
          </a:custGeom>
          <a:noFill/>
          <a:ln w="507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7" name="object 23"/>
          <p:cNvSpPr/>
          <p:nvPr/>
        </p:nvSpPr>
        <p:spPr>
          <a:xfrm>
            <a:off x="4172040" y="1987560"/>
            <a:ext cx="490320" cy="392040"/>
          </a:xfrm>
          <a:custGeom>
            <a:avLst/>
            <a:gdLst/>
            <a:ahLst/>
            <a:rect l="l" t="t" r="r" b="b"/>
            <a:pathLst>
              <a:path w="490537" h="392074">
                <a:moveTo>
                  <a:pt x="333705" y="0"/>
                </a:moveTo>
                <a:lnTo>
                  <a:pt x="333705" y="98018"/>
                </a:lnTo>
                <a:lnTo>
                  <a:pt x="0" y="98018"/>
                </a:lnTo>
                <a:lnTo>
                  <a:pt x="0" y="294055"/>
                </a:lnTo>
                <a:lnTo>
                  <a:pt x="333705" y="294055"/>
                </a:lnTo>
                <a:lnTo>
                  <a:pt x="333705" y="392074"/>
                </a:lnTo>
                <a:lnTo>
                  <a:pt x="490537" y="196037"/>
                </a:lnTo>
                <a:lnTo>
                  <a:pt x="333705" y="0"/>
                </a:lnTo>
                <a:close/>
              </a:path>
            </a:pathLst>
          </a:custGeom>
          <a:solidFill>
            <a:srgbClr val="31859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8" name="object 24"/>
          <p:cNvSpPr/>
          <p:nvPr/>
        </p:nvSpPr>
        <p:spPr>
          <a:xfrm>
            <a:off x="4172040" y="1987560"/>
            <a:ext cx="490320" cy="392040"/>
          </a:xfrm>
          <a:custGeom>
            <a:avLst/>
            <a:gdLst/>
            <a:ahLst/>
            <a:rect l="l" t="t" r="r" b="b"/>
            <a:pathLst>
              <a:path w="490537" h="392074">
                <a:moveTo>
                  <a:pt x="0" y="98018"/>
                </a:moveTo>
                <a:lnTo>
                  <a:pt x="333705" y="98018"/>
                </a:lnTo>
                <a:lnTo>
                  <a:pt x="333705" y="0"/>
                </a:lnTo>
                <a:lnTo>
                  <a:pt x="490537" y="196037"/>
                </a:lnTo>
                <a:lnTo>
                  <a:pt x="333705" y="392074"/>
                </a:lnTo>
                <a:lnTo>
                  <a:pt x="333705" y="294055"/>
                </a:lnTo>
                <a:lnTo>
                  <a:pt x="0" y="294055"/>
                </a:lnTo>
                <a:lnTo>
                  <a:pt x="0" y="98018"/>
                </a:lnTo>
                <a:close/>
              </a:path>
            </a:pathLst>
          </a:custGeom>
          <a:no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9" name="object 25"/>
          <p:cNvSpPr/>
          <p:nvPr/>
        </p:nvSpPr>
        <p:spPr>
          <a:xfrm>
            <a:off x="3429000" y="2666880"/>
            <a:ext cx="1857240" cy="18576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bject 26"/>
          <p:cNvSpPr/>
          <p:nvPr/>
        </p:nvSpPr>
        <p:spPr>
          <a:xfrm>
            <a:off x="2816280" y="6164280"/>
            <a:ext cx="2023920" cy="376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rganisations</a:t>
            </a:r>
            <a:endParaRPr b="0" lang="en-US" sz="2400" spc="-1" strike="noStrike">
              <a:solidFill>
                <a:srgbClr val="000000"/>
              </a:solidFill>
              <a:latin typeface="Calibri"/>
            </a:endParaRPr>
          </a:p>
        </p:txBody>
      </p:sp>
      <p:sp>
        <p:nvSpPr>
          <p:cNvPr id="331" name="object 27"/>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object 2"/>
          <p:cNvSpPr/>
          <p:nvPr/>
        </p:nvSpPr>
        <p:spPr>
          <a:xfrm>
            <a:off x="0" y="1000080"/>
            <a:ext cx="1143000" cy="559908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object 3"/>
          <p:cNvSpPr/>
          <p:nvPr/>
        </p:nvSpPr>
        <p:spPr>
          <a:xfrm>
            <a:off x="0" y="6060960"/>
            <a:ext cx="9144000" cy="797040"/>
          </a:xfrm>
          <a:prstGeom prst="rect">
            <a:avLst/>
          </a:prstGeom>
          <a:noFill/>
          <a:ln w="0">
            <a:noFill/>
          </a:ln>
        </p:spPr>
        <p:style>
          <a:lnRef idx="0"/>
          <a:fillRef idx="0"/>
          <a:effectRef idx="0"/>
          <a:fontRef idx="minor"/>
        </p:style>
        <p:txBody>
          <a:bodyPr lIns="0" rIns="0" tIns="0" bIns="0" anchor="t">
            <a:normAutofit/>
          </a:bodyPr>
          <a:p>
            <a:pPr marL="3524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Right to life with dignity</a:t>
            </a:r>
            <a:endParaRPr b="0" lang="en-US" sz="1800" spc="-1" strike="noStrike">
              <a:solidFill>
                <a:srgbClr val="000000"/>
              </a:solidFill>
              <a:latin typeface="Calibri"/>
            </a:endParaRPr>
          </a:p>
        </p:txBody>
      </p:sp>
      <p:sp>
        <p:nvSpPr>
          <p:cNvPr id="334" name="object 4"/>
          <p:cNvSpPr/>
          <p:nvPr/>
        </p:nvSpPr>
        <p:spPr>
          <a:xfrm>
            <a:off x="1143000" y="1125360"/>
            <a:ext cx="1440" cy="4969080"/>
          </a:xfrm>
          <a:custGeom>
            <a:avLst/>
            <a:gdLst/>
            <a:ahLst/>
            <a:rect l="l" t="t" r="r" b="b"/>
            <a:pathLst>
              <a:path w="1587" h="4968875">
                <a:moveTo>
                  <a:pt x="1587" y="0"/>
                </a:moveTo>
                <a:lnTo>
                  <a:pt x="0" y="4968875"/>
                </a:lnTo>
              </a:path>
            </a:pathLst>
          </a:custGeom>
          <a:noFill/>
          <a:ln w="19080">
            <a:solidFill>
              <a:srgbClr val="78b64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35" name="object 5"/>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object 6"/>
          <p:cNvSpPr/>
          <p:nvPr/>
        </p:nvSpPr>
        <p:spPr>
          <a:xfrm>
            <a:off x="79200" y="36360"/>
            <a:ext cx="1757520" cy="1289160"/>
          </a:xfrm>
          <a:prstGeom prst="rect">
            <a:avLst/>
          </a:prstGeom>
          <a:noFill/>
          <a:ln w="0">
            <a:noFill/>
          </a:ln>
        </p:spPr>
        <p:style>
          <a:lnRef idx="0"/>
          <a:fillRef idx="0"/>
          <a:effectRef idx="0"/>
          <a:fontRef idx="minor"/>
        </p:style>
        <p:txBody>
          <a:bodyPr lIns="0" rIns="0" tIns="0" bIns="0" anchor="t">
            <a:norm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ae12"/>
                </a:solidFill>
                <a:latin typeface="Arial"/>
                <a:ea typeface="Arial"/>
              </a:rPr>
              <a:t>Sphere Handbook Structure</a:t>
            </a:r>
            <a:endParaRPr b="0" lang="en-US" sz="28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03400" y="1550880"/>
            <a:ext cx="6937200" cy="1330560"/>
          </a:xfrm>
          <a:prstGeom prst="rect">
            <a:avLst/>
          </a:prstGeom>
          <a:noFill/>
          <a:ln w="0">
            <a:noFill/>
          </a:ln>
        </p:spPr>
        <p:txBody>
          <a:bodyPr lIns="0" rIns="0" tIns="0" bIns="0" anchor="t">
            <a:noAutofit/>
          </a:bodyPr>
          <a:p>
            <a:pPr marL="282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is Sphere?</a:t>
            </a:r>
            <a:endParaRPr b="0" lang="en-US" sz="2800" spc="-1" strike="noStrike">
              <a:solidFill>
                <a:srgbClr val="000000"/>
              </a:solidFill>
              <a:latin typeface="Calibri"/>
            </a:endParaRPr>
          </a:p>
        </p:txBody>
      </p:sp>
      <p:sp>
        <p:nvSpPr>
          <p:cNvPr id="338" name="object 3"/>
          <p:cNvSpPr/>
          <p:nvPr/>
        </p:nvSpPr>
        <p:spPr>
          <a:xfrm>
            <a:off x="0" y="0"/>
            <a:ext cx="7635960" cy="13874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object 4"/>
          <p:cNvSpPr/>
          <p:nvPr/>
        </p:nvSpPr>
        <p:spPr>
          <a:xfrm>
            <a:off x="7567560" y="6251400"/>
            <a:ext cx="1484280" cy="559080"/>
          </a:xfrm>
          <a:prstGeom prst="rect">
            <a:avLst/>
          </a:prstGeom>
          <a:noFill/>
          <a:ln w="0">
            <a:noFill/>
          </a:ln>
        </p:spPr>
        <p:style>
          <a:lnRef idx="0"/>
          <a:fillRef idx="0"/>
          <a:effectRef idx="0"/>
          <a:fontRef idx="minor"/>
        </p:style>
        <p:txBody>
          <a:bodyPr lIns="0" rIns="0" tIns="0" bIns="0" anchor="t">
            <a:normAutofit/>
          </a:bodyPr>
          <a:p>
            <a:pPr marL="171360" indent="-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8b64a"/>
                </a:solidFill>
                <a:latin typeface="Arial"/>
                <a:ea typeface="Arial"/>
              </a:rPr>
              <a:t>Humanitarian Impera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135000" y="380880"/>
            <a:ext cx="8551800" cy="633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2T18:26:45Z</dcterms:created>
  <dc:creator>IT</dc:creator>
  <dc:description/>
  <dc:language>en-US</dc:language>
  <cp:lastModifiedBy>CeciliaFurtade</cp:lastModifiedBy>
  <dcterms:modified xsi:type="dcterms:W3CDTF">2014-04-10T16:41:33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03-02T00:00:00Z</vt:filetime>
  </property>
  <property fmtid="{D5CDD505-2E9C-101B-9397-08002B2CF9AE}" pid="3" name="LastSaved">
    <vt:filetime>2014-04-02T00:00:00Z</vt:filetime>
  </property>
</Properties>
</file>